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6DF-52C3-4172-BF84-44393342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9600" y="525096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AF2-FAA4-4303-94BD-C5CC486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334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870-7D1F-407B-B7B3-3768F1E0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6744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3492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960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6744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3492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16C-4E42-4E54-9138-56EFC3CF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AC5-ECCD-4A43-8187-384ECF89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2C37-0CDC-4CC6-AFFC-4D9E7783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E93-8125-427B-BF6D-58A9475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BA7F-2CD2-45F1-A9D9-9B89A9F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09F-CBB5-484F-AA5E-2064F6D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9600" y="630000"/>
            <a:ext cx="61153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EB8B-1284-4C72-891B-640C8D66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69F-65EF-408F-8C2F-EAEE145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DFC-2A53-40B7-BFF7-5611A0D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334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5DC-1573-494F-81F4-D2E4A96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39F0-5546-481E-A488-3B87D7A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" y="525096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AAD-BA12-48B4-A022-3E91C96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334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C7B-3954-4CFF-B726-355E9576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6744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34920" y="243828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960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6744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34920" y="5250960"/>
            <a:ext cx="19688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846-5FA0-458E-8D64-A28DBF1A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061-2E93-47DF-994B-4BB0431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315-65B5-4C0F-BA9E-39C345A2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E72-222A-4B49-B884-B756198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630000"/>
            <a:ext cx="61153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4BC-31CD-4B3C-AE1B-C6B272E8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F1C-60F6-414C-BE22-FCA9BA1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33400" y="525096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278-89CD-4F96-A3F2-12BAB32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33400" y="2438280"/>
            <a:ext cx="29840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9600" y="5250960"/>
            <a:ext cx="6115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DE3-92A3-40B7-9D02-14DF0F7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1360" y="304920"/>
            <a:ext cx="6515280" cy="7924320"/>
            <a:chOff x="171360" y="304920"/>
            <a:chExt cx="6515280" cy="7924320"/>
          </a:xfrm>
        </p:grpSpPr>
        <p:sp>
          <p:nvSpPr>
            <p:cNvPr id="1" name="Rectangle 3"/>
            <p:cNvSpPr/>
            <p:nvPr/>
          </p:nvSpPr>
          <p:spPr>
            <a:xfrm>
              <a:off x="171360" y="304920"/>
              <a:ext cx="6515280" cy="792432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29680" y="408240"/>
              <a:ext cx="6397560" cy="769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99960" y="2311200"/>
              <a:ext cx="61149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99600" y="8331120"/>
            <a:ext cx="1543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42892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086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F06D-6BB3-47F7-88BE-B8E09164ED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85840" y="609480"/>
            <a:ext cx="6299280" cy="7416720"/>
            <a:chOff x="285840" y="609480"/>
            <a:chExt cx="6299280" cy="7416720"/>
          </a:xfrm>
        </p:grpSpPr>
        <p:sp>
          <p:nvSpPr>
            <p:cNvPr id="46" name="Rectangle 3"/>
            <p:cNvSpPr/>
            <p:nvPr/>
          </p:nvSpPr>
          <p:spPr>
            <a:xfrm>
              <a:off x="285840" y="609480"/>
              <a:ext cx="6299280" cy="7416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39480" y="711000"/>
              <a:ext cx="6172920" cy="7213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685800" y="4774680"/>
              <a:ext cx="54867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3200" y="8331120"/>
            <a:ext cx="154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437920" y="8331120"/>
            <a:ext cx="216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5090760" y="834372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970-5D6C-4280-BB25-B8728AE340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lcrm.idknet.com/pix/images/embroidery/iris_x10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kodelie-club.ru/uploads/posts/2008-01/1201624469_ris-40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hyperlink" Target="http://www.stitchshop.ru/shop/images/dim-1499-big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17080"/>
            <a:ext cx="5086440" cy="341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Вышивка</a:t>
            </a:r>
            <a:br>
              <a:rPr sz="6200"/>
            </a:b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гладью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28520" y="6372360"/>
            <a:ext cx="480060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23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вухсторонняя гладь с настилом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883880"/>
            <a:ext cx="611532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Эта техника вышивания выполняется по предварительно проложенному настилу из более толстых ниток для придания выпуклости вышивке. Одной из разновидностей этой вышивки является 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белая гладь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. Называется она так потому, что когда-то ей вышивали по белому полотну белыми нитками постельное или столовое белье. В наше время белой гладью вышивают платки, детали одежды, но осталось главное отличие от других видов глади – нитки должны быть в тон ткан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елая гладь состоит из нескольких элементов, сочетая которые и создается узор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"Шнурочек"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 контуру прокладывается каркас из одной или двух строчек, которые обшиваются поперечными стежками двухсторонней глади, расположенных плотно друг к другу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50ap39"/>
          <p:cNvPicPr/>
          <p:nvPr/>
        </p:nvPicPr>
        <p:blipFill>
          <a:blip r:embed="rId1"/>
          <a:stretch/>
        </p:blipFill>
        <p:spPr>
          <a:xfrm>
            <a:off x="890640" y="922320"/>
            <a:ext cx="4844880" cy="6674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Горошинки" или "пышечки". Сначала прокладывают швом "вперед иголку" контур "горошинки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30006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50vp39"/>
          <p:cNvPicPr/>
          <p:nvPr/>
        </p:nvPicPr>
        <p:blipFill>
          <a:blip r:embed="rId1"/>
          <a:stretch/>
        </p:blipFill>
        <p:spPr>
          <a:xfrm>
            <a:off x="1413000" y="2484360"/>
            <a:ext cx="4464000" cy="5505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ем делают настил параллельными стежками двухсторонней гладью, не заходя за контур рисунка. Настил может быть один или несколько, это зависит от того, насколько выпуклым должен быть рисунок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50gp39"/>
          <p:cNvPicPr/>
          <p:nvPr/>
        </p:nvPicPr>
        <p:blipFill>
          <a:blip r:embed="rId1"/>
          <a:stretch/>
        </p:blipFill>
        <p:spPr>
          <a:xfrm>
            <a:off x="1773360" y="2843280"/>
            <a:ext cx="360036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последующий настил выкладывается перпендикулярно предыдущему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50dp39"/>
          <p:cNvPicPr/>
          <p:nvPr/>
        </p:nvPicPr>
        <p:blipFill>
          <a:blip r:embed="rId1"/>
          <a:stretch/>
        </p:blipFill>
        <p:spPr>
          <a:xfrm>
            <a:off x="2133720" y="2459160"/>
            <a:ext cx="3456000" cy="5465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Горошинку" закрывают верхним слоем, выводя нитку за контур плотными стежками, чтобы не виден был предыдущий слой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30006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50ep39"/>
          <p:cNvPicPr/>
          <p:nvPr/>
        </p:nvPicPr>
        <p:blipFill>
          <a:blip r:embed="rId1"/>
          <a:stretch/>
        </p:blipFill>
        <p:spPr>
          <a:xfrm>
            <a:off x="1628640" y="2484360"/>
            <a:ext cx="3672000" cy="56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Лапочки" и "листики". Вышиваются по той же схеме, что и "горошинки", причем настилают верхний слой гладьевыми поперечными стежками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50jp39"/>
          <p:cNvPicPr/>
          <p:nvPr/>
        </p:nvPicPr>
        <p:blipFill>
          <a:blip r:embed="rId1"/>
          <a:stretch/>
        </p:blipFill>
        <p:spPr>
          <a:xfrm>
            <a:off x="2131920" y="2554200"/>
            <a:ext cx="297180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9600" y="48960"/>
            <a:ext cx="6115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539640"/>
            <a:ext cx="6115320" cy="72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Листик "в раскол". Листик разделен посередине на две половинки вдоль и на две или три части по длине. Сначала вышивают гладью конец листика длинными стежками, а затем середину. Не забывайте, предварительно необходимо проложить контуры и проложить предварительный насти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50ikp39"/>
          <p:cNvPicPr/>
          <p:nvPr/>
        </p:nvPicPr>
        <p:blipFill>
          <a:blip r:embed="rId1"/>
          <a:stretch/>
        </p:blipFill>
        <p:spPr>
          <a:xfrm>
            <a:off x="351000" y="731880"/>
            <a:ext cx="6156000" cy="7223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9600" y="634680"/>
            <a:ext cx="6115320" cy="71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д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ышивание плоскости узора частично или полностью прямыми или косыми стежками. Гладь бывает односторонняя, двухсторонняя, выпуклая с настилом или без настила, прорезная, одноцветная или многоцветна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826920"/>
            <a:ext cx="6115320" cy="69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осая выпуклая гладь. Этот вид глади применяется для вышивания листиков и узоров с волнистыми или зубчатыми краями. Технология выполнения не отличается от предыдущих элементов, отличие только в направлении стежков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резная гладь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690200"/>
            <a:ext cx="61153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сквозная  вышивка, для которой характерны проколотые или прорезанные в ткани дырочки разной величины и формы. Для вышивания необходимы тонкая  и прочная несыпучая ткань. Каждую дырочку вышивают отдельно, чтобы на изнанке не было переходов. В зависимости от формы дырочек элементы прорезной глади имеют названия и особенности обработк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634680"/>
            <a:ext cx="6115320" cy="71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лкие дырочки прокалываются колышком, и полученное отверстие обшивается через край мелкими плотными стежками. Можно сначала сделать настил по контуру дырочки в один - два ряда стежками "вперед иголку" , затем делать прокол и обшить его через край узеньким шнурочком шириной 2 - 2,5 мм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рупные дырочки диаметром до 10 мм. Сначала прокладывают по контуру нитку в один-два ряда , в середине делают разрез крест-накрест. С помощью иглы подгибают разрезанную ткань на изнанку и обшиваем дырочку гладьевым шнурочком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52ap40"/>
          <p:cNvPicPr/>
          <p:nvPr/>
        </p:nvPicPr>
        <p:blipFill>
          <a:blip r:embed="rId1"/>
          <a:stretch/>
        </p:blipFill>
        <p:spPr>
          <a:xfrm>
            <a:off x="549360" y="539640"/>
            <a:ext cx="5832360" cy="7586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Калачики". При вышивании "калачика" контуры обшивают стежками в два-три ряда. Контуры широкой стороны вышивают гладью, узкой – шнурочко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52bp40"/>
          <p:cNvPicPr/>
          <p:nvPr/>
        </p:nvPicPr>
        <p:blipFill>
          <a:blip r:embed="rId1"/>
          <a:stretch/>
        </p:blipFill>
        <p:spPr>
          <a:xfrm>
            <a:off x="1341360" y="2916360"/>
            <a:ext cx="4248360" cy="4548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"Листик" или "челнок" обрабатывается аналогично "калачику"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52vgdp40"/>
          <p:cNvPicPr/>
          <p:nvPr/>
        </p:nvPicPr>
        <p:blipFill>
          <a:blip r:embed="rId1"/>
          <a:stretch/>
        </p:blipFill>
        <p:spPr>
          <a:xfrm>
            <a:off x="243000" y="2652840"/>
            <a:ext cx="63450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тласная гладь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595160"/>
            <a:ext cx="6115320" cy="62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вид глади используется для вышивания больших площадей узора с гладкой блестящей поверхностью. Для вышивания нужно брать нитки мулине в одно-два сложения. Стежки не стыкуются концами друг с другом, а плотно ложатся, заходя один на другой. Длина стежков не должна превышать 0,5 - 0,8 см. стежки укладывают рядами, следя за тем, чтобы проколы вышиваемого ряда ложились посередине стежков предыдущего ряд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ую нитку выводят на лицевую сторону ткани и делают первый стежок, вкалывая иглу на его длину и выкалывая на 1 - 2 мм назад. Следующий стежок вышивается аналогично. Последний стежок ряда должен заканчиваться на противоположном контуре рисунка. Второй ряд прокладывается в обратном направлении, следя за тем, чтобы проколы не были на одном уровне с проколами стежков предыдущего ря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невая гладь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595160"/>
            <a:ext cx="6115320" cy="62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ый сложный и самый красивый вид глади. Иногда называют цветной или художественной. Каждый элемент рисунка вышивается нитками нескольких цветов, подобранных таким образом, чтобы создавалось впечатление, что цвета плавно переходят друг в друга. Рисунки, выполненные этим видом глади, менее стилизованы и более приближены к действительности.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лемент узора мысленно делят на несколько участков, в зависимости от количества используемых ниток. Вышивать начинают с более светлого участка. Стежки не должны быть одинаковыми – та сторона стежка, которая касается контура, должна находиться на контуре, а та, которая касается  стежков другого цвета, должна быть на разном уровне друг относительно друг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826920"/>
            <a:ext cx="6115320" cy="69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ледующий участок вышивается другим цветом так, чтобы стежки на смежном участке как бы вливались в предыдущий цвет. Для достижения этого эффекта иглу лучше вкалывать между ранее сделанными стежкам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Картинка 72 из 19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вухсторонняя гладь без насти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тежки прокладываются от контура к контуру, вкалывая иглу в один контур и выводя ее в противоположный. Стежки могут располагаться вертикально, горизонтально или наклонно, но преимущественно параллельно друг другу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ладимирская глад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1201625186_ris-45"/>
          <p:cNvPicPr/>
          <p:nvPr/>
        </p:nvPicPr>
        <p:blipFill>
          <a:blip r:embed="rId1"/>
          <a:stretch/>
        </p:blipFill>
        <p:spPr>
          <a:xfrm>
            <a:off x="692280" y="1332000"/>
            <a:ext cx="540072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итайская глад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5" descr="1201624956_ris-43"/>
          <p:cNvPicPr/>
          <p:nvPr/>
        </p:nvPicPr>
        <p:blipFill>
          <a:blip r:embed="rId1"/>
          <a:stretch/>
        </p:blipFill>
        <p:spPr>
          <a:xfrm>
            <a:off x="260280" y="2076480"/>
            <a:ext cx="2952720" cy="659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1201625027_ris-44"/>
          <p:cNvPicPr/>
          <p:nvPr/>
        </p:nvPicPr>
        <p:blipFill>
          <a:blip r:embed="rId2"/>
          <a:stretch/>
        </p:blipFill>
        <p:spPr>
          <a:xfrm>
            <a:off x="3357720" y="2916360"/>
            <a:ext cx="3240000" cy="4521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1201624692_ris-41"/>
          <p:cNvPicPr/>
          <p:nvPr/>
        </p:nvPicPr>
        <p:blipFill>
          <a:blip r:embed="rId1"/>
          <a:stretch/>
        </p:blipFill>
        <p:spPr>
          <a:xfrm>
            <a:off x="297000" y="731880"/>
            <a:ext cx="3139920" cy="728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1201624741_ris-42"/>
          <p:cNvPicPr/>
          <p:nvPr/>
        </p:nvPicPr>
        <p:blipFill>
          <a:blip r:embed="rId2"/>
          <a:stretch/>
        </p:blipFill>
        <p:spPr>
          <a:xfrm>
            <a:off x="3699000" y="826920"/>
            <a:ext cx="2786040" cy="707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БАБОЧ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000" y="444600"/>
            <a:ext cx="3690720" cy="671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201623456_ris-37"/>
          <p:cNvPicPr/>
          <p:nvPr/>
        </p:nvPicPr>
        <p:blipFill>
          <a:blip r:embed="rId3"/>
          <a:stretch/>
        </p:blipFill>
        <p:spPr>
          <a:xfrm>
            <a:off x="3726000" y="3564000"/>
            <a:ext cx="313200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1201622906_ris-33"/>
          <p:cNvPicPr/>
          <p:nvPr/>
        </p:nvPicPr>
        <p:blipFill>
          <a:blip r:embed="rId2"/>
          <a:stretch/>
        </p:blipFill>
        <p:spPr>
          <a:xfrm>
            <a:off x="3500280" y="0"/>
            <a:ext cx="2997360" cy="521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Картинка 23 из 1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3360" y="3743280"/>
            <a:ext cx="380844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4920" y="-8237520"/>
            <a:ext cx="997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46abp37"/>
          <p:cNvPicPr/>
          <p:nvPr/>
        </p:nvPicPr>
        <p:blipFill>
          <a:blip r:embed="rId1"/>
          <a:stretch/>
        </p:blipFill>
        <p:spPr>
          <a:xfrm>
            <a:off x="0" y="324000"/>
            <a:ext cx="6858000" cy="7416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ие стежков выбирается в зависимости от рисунка. Иногда контур рисунка заполняется не полностью, делая неодинаковые стежки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46gp37"/>
          <p:cNvPicPr/>
          <p:nvPr/>
        </p:nvPicPr>
        <p:blipFill>
          <a:blip r:embed="rId1"/>
          <a:stretch/>
        </p:blipFill>
        <p:spPr>
          <a:xfrm>
            <a:off x="333360" y="2556000"/>
            <a:ext cx="3330720" cy="5376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753000" y="4148280"/>
            <a:ext cx="280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стежков этого вида гл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л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ь больше 15м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23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Гладь вприкреп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ладь вприкреп применяется для заполнения больших поверхностей узоров . Для выполнения этого вида глади сначала прокладывают длинный стежок от контура к контуру и закрепляют его короткими стежками , которые могут быть косыми или поперечным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47abp37"/>
          <p:cNvPicPr/>
          <p:nvPr/>
        </p:nvPicPr>
        <p:blipFill>
          <a:blip r:embed="rId1"/>
          <a:stretch/>
        </p:blipFill>
        <p:spPr>
          <a:xfrm>
            <a:off x="297000" y="826920"/>
            <a:ext cx="6210000" cy="673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630360"/>
            <a:ext cx="6115320" cy="211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ерхошов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2438280"/>
            <a:ext cx="61153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дносторонняя гладь, вышитая глухим свободным швом, который шьется большими стежками от контура к контуру, аналогично односторонней счетной глад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63000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48ap37"/>
          <p:cNvPicPr/>
          <p:nvPr/>
        </p:nvPicPr>
        <p:blipFill>
          <a:blip r:embed="rId1"/>
          <a:stretch/>
        </p:blipFill>
        <p:spPr>
          <a:xfrm>
            <a:off x="692280" y="539640"/>
            <a:ext cx="5616360" cy="7448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1:31:44Z</dcterms:created>
  <dc:creator>алексей</dc:creator>
  <dc:description/>
  <dc:language>en-US</dc:language>
  <cp:lastModifiedBy>Учитель</cp:lastModifiedBy>
  <dcterms:modified xsi:type="dcterms:W3CDTF">2009-03-30T09:58:11Z</dcterms:modified>
  <cp:revision>3</cp:revision>
  <dc:subject/>
  <dc:title>Вышивка гладью.</dc:title>
</cp:coreProperties>
</file>