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972-CC29-4334-8E02-AF41856E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957-592F-48FB-91E2-1E6F1296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E9B-DF15-439A-AEA6-1CA2CB7E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6EB-8B59-482D-BBF8-2B2B6E57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BA14-09F2-417D-A25C-E47E9EF5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29E5-8C04-4836-A1D8-769280DE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D57B-07DF-4BD3-B5FE-FFD4D9AC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839D-4B7B-45AB-86B0-7E76670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33C1-9FA5-4FAD-B20D-9D25A35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64F8-7048-4F64-B6BE-19F4EC57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D368-B39D-4F19-8018-E660FAC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D93-01AD-4C27-938B-FEB48479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DB8-7103-44E8-B9E0-F4A7122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1CAD-A3C2-46DF-8E5A-CCB54CD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83A1-EAF2-4163-8BD0-FADFCD2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07D4-BB13-4BD9-94A4-1F4E7DFE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84A2-A536-47B0-BBAD-3AA6EB51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A479-24DB-4FCB-8C79-9B3CAA17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8EE7-2C85-4AAA-8544-D09D601B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6529-84BB-4C45-B5FF-3D488F35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7DE7-C63D-4950-8C35-75E25803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BCE8-85C4-40F9-8B13-AD22F8ED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947-CCEF-4221-9DB9-34325456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5189-1E9A-43F7-A6EC-0C20153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12A3-E59F-4D51-BA86-7413A45B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A6FB-76E7-4717-8FE3-F613A30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1CDB-5790-4D5D-BDD5-22AD007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89A9-27D9-4ABB-ABB2-9ABC930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54F2-29E1-4E40-B0ED-F91C6B29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C368-F2FA-4ABB-ADB7-21F3ACCD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02BD-8476-4204-B8C1-E787C1B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22BD-7B98-47EE-A90D-E6FA893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DEC1-9BC0-4CFF-8392-013971B4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8DE-6C2D-43AF-82D8-E92A3085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E8B2F-5B31-4EB7-898C-08A7F00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C9BF-0874-415F-A023-23D4A036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8026-C15B-44B7-AA69-18B2ADE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FFF7-3D20-4410-9A67-C87FF770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F2892-F5EA-4A7D-B24B-21AB59F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58F5-5EF5-4618-B9FF-5CB16EA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BD8D-F955-4A23-802D-B94CAE9A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94AF7-8971-4633-B6D0-DD88767D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2E6D-E106-429F-9D33-961980A6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6FB7-F9DA-4EA3-B55B-30B91375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358-552C-4966-8271-5F221B9F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20E6D-8894-4B8E-9097-1AD9E9F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6D55-4E64-4F86-942C-64FD7B6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E3531-FD80-4E64-9174-0E8723B2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8934-7C39-47E4-B5E8-463F8C68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4D5B-83EA-4CB4-A001-B5833DDF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BE01-B7CF-4C03-A636-B66163F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1D83-99B9-464A-B4F5-D3A1DCF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62F9-6224-4910-95C9-AD69FC7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06571-E172-47E4-9164-B09EEB52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128E0-2642-46A9-BE01-FB576A03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A27-255A-409D-9012-0B936C5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9F616-4F0F-4B06-90BE-AA85F8DE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E19-D827-43FF-ADA1-D317E08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920-B0CD-43F8-AD41-BA992B8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1C6-C11A-4CD9-989F-8FDDBE7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0BF-1E35-4722-B3E1-81AA53F3A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906-E0FF-44AD-9B7D-DC44C68BF3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CF08-5529-41CA-9745-1E256E1AF9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34D4-C85D-43B1-A93A-5534CB673B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4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4C42-8EAE-4F76-A15D-29E4A1C265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технолог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0560" y="765000"/>
            <a:ext cx="5194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Воротник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«стойка»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532720" y="1600200"/>
            <a:ext cx="154080" cy="604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5003640" y="5877000"/>
            <a:ext cx="361008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ыхрикова А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Arial"/>
              </a:rPr>
              <a:t>Построение чертеж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767ff"/>
                </a:solidFill>
                <a:latin typeface="Arial"/>
              </a:rPr>
              <a:t>Для воротника «хомутика» характерно отсутствие застежки или если она есть, то обычно ее делают потайной сзади ворот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767ff"/>
                </a:solidFill>
                <a:latin typeface="Arial"/>
              </a:rPr>
              <a:t>Воротник стойка типа «хомутик» представляет собой при построении прямоугольник , длина которого равна </a:t>
            </a:r>
            <a:r>
              <a:rPr b="1" i="1" lang="ru-RU" sz="2800" spc="-1" strike="noStrike">
                <a:solidFill>
                  <a:srgbClr val="6767ff"/>
                </a:solidFill>
                <a:latin typeface="Arial"/>
              </a:rPr>
              <a:t>L</a:t>
            </a:r>
            <a:r>
              <a:rPr b="0" i="1" lang="ru-RU" sz="2800" spc="-1" strike="noStrike">
                <a:solidFill>
                  <a:srgbClr val="6767ff"/>
                </a:solidFill>
                <a:latin typeface="Arial"/>
              </a:rPr>
              <a:t>горл, а ширина — удвоенной высоте воротника .Что бы воротник имел мягкую форму и плавно отставал от горловины, образуя красивые складки нить основы должна идти под углом </a:t>
            </a:r>
            <a:r>
              <a:rPr b="1" i="1" lang="ru-RU" sz="2800" spc="-1" strike="noStrike">
                <a:solidFill>
                  <a:srgbClr val="6767ff"/>
                </a:solidFill>
                <a:latin typeface="Arial"/>
              </a:rPr>
              <a:t>45°</a:t>
            </a:r>
            <a:r>
              <a:rPr b="0" i="1" lang="ru-RU" sz="2800" spc="-1" strike="noStrike">
                <a:solidFill>
                  <a:srgbClr val="6767ff"/>
                </a:solidFill>
                <a:latin typeface="Arial"/>
              </a:rPr>
              <a:t> к линии втачивания воротника в горлови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767ff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solidFill>
            <a:srgbClr val="fda1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оротник стойка формы «воронка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50920" y="616572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Стойка формы «воронка» (линия втачивания вогнутая) ; ОВ= 8,0-10,0 с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140360" y="2060640"/>
            <a:ext cx="460836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fda1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остроение черте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54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Построим прямой угол с вершиной в точке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Вверх от точки О откладываем 8,0 – 10,0 см.Обозначаем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Из точки В радиусом ВА= Lгорл –0,5 х ОВ = 22-0,5х8,0=18,0 см делаем засечку на горизонталь О. Обозначаем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Отрезок АВ делим паполам. Обозначаем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Через точку 1 к прямой АВ восстанавливаем перпендикуляр вверх и на нем откладываем 1,0 см. Обозначаем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Через точки В,2,А проводим плавную линию втачивания стойки в горлов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От точки В вверх откладываем высоту стойки 3,0- 7,0 см. Обозначаем В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Через точку А к прямой АВ восстанавливаем перпендикуляр ввер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От точки А вверх откладываем отрезок АА1 = ВВ1 равный высоте стой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Точки В1 и А1 соединяем плавной линией , параллельной линии втачивания воротника в горлов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На продолжении линии В1А1 вправо от точки А1 откладываем отрезок А1В2, величина котороно определяется моде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 Точки в2 и А соединяем прям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и оформлении линии следует следить за тем, что бы они составляли прямой угол со средней линией воротника ВВ1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a1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Прямая стой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5543640" cy="4011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140280" cy="3252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da1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остроение черте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Построим прямой угол с вершиной в точке 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Вверх от точки А откладываем величину подъема стойки 0,5 – 1,0см .Обозначаем А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Из точки А1 радиусом равным ВА=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горл –0,5 х АА1 = 22-0,5х1,0=21,5 см делаем засечку на горизонталь ,проведенную влево из точки А. Обозначаем 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Через точку В к прямой АВ восстанавливаем перпендикуляр вверх и на нем откладываем высоту стойки ВВ1=3,0-7,0 см. Обозначаем В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Точки В и А1 соединяем плавной лин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Через точку А к прямой АВ восстанавливаем перпендикуляр вверх и на нем откладываем высоту стойки А1А2= ВВ1=3,0-7,0 см. Обозначаем А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Верхний край стойки оформляем по мод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da1f4"/>
                </a:solidFill>
                <a:latin typeface="Arial"/>
              </a:rPr>
              <a:t>При оформлении линии следует следить за тем, что бы они составляли прямой угол со средней линией ; воротника ВВ1</a:t>
            </a:r>
            <a:r>
              <a:rPr b="0" lang="ru-RU" sz="2000" spc="-1" strike="noStrike">
                <a:solidFill>
                  <a:srgbClr val="fda1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a1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Конусообразная стой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47236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solidFill>
            <a:srgbClr val="fda1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остроение черте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Построим прямой угол с вершиной в точке 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Вверх от точки А откладываем величину подъема стойки 3,0 – 6,0 см .Обозначаем А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Из точки А1 радиусом равным ВА=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горл –0,5 х АА1 = 22-0,5х3,0=20,5 см делаем засечку на горизонталь ,проведенную влево из точки А. Обозначаем 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Точки А1 и В соединяем прямой лин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Через точку В к прямой АВ восстанавливаем перпендикуляр вверх и на нем откладываем высоту стойки ВВ1=3,0-7,0 см. Обозначаем В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- Через точку А1 к прямой А1В восстанавливаем перпендикуляр вверх и на нем откладываем высоту стойки А1А2= ВВ1=3,0-7,0 см. Обозначаем А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Оформляем линию втачивания стойки соединяя плавной линией точки В и А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Верхний край стойки оформляем по мод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ри оформлении линии следует следить за тем, что бы они составляли прямой угол со средней линией воротника ВВ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Arial"/>
              </a:rPr>
              <a:t>Воротник «хомутик»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113440" cy="3700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7:05:03Z</dcterms:created>
  <dc:creator>алексей</dc:creator>
  <dc:description/>
  <dc:language>en-US</dc:language>
  <cp:lastModifiedBy>алексей</cp:lastModifiedBy>
  <dcterms:modified xsi:type="dcterms:W3CDTF">2009-03-03T12:26:39Z</dcterms:modified>
  <cp:revision>5</cp:revision>
  <dc:subject/>
  <dc:title>Воротник стойка формы «воронка» </dc:title>
</cp:coreProperties>
</file>