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39E2-CC9B-412C-BD42-6F6AC6E6D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B8B5-3B93-45A4-B873-74181E17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2D62-2D1B-4237-AE01-7B33D0BB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DE9E-DB3C-4195-8E11-5759E560F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9B1D-387F-4A8D-8B0A-AE7B4CB1A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6CF5-C05B-4DBB-BF5A-644602EA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9D33-8FA3-4BDD-B7FC-2F477F6B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144A-403C-4E0C-93CB-D9EFF2FC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90B1-5149-470B-8850-5BC51C17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706E-4BD1-4422-BE5F-9A81418E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14B6-8053-4EA3-BC16-6CE7AE4C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AD31-4FE6-4FAD-AC6B-5379CB1A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6F38-CEC4-4E8E-B859-E8E96B80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0272-4F76-4F0E-8ADE-8770F058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4264-495E-4896-9454-A56AC549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2972-76EB-499A-926B-DA56F614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DB6B-3FB7-4DAB-B09C-5834791BD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6067D-3DB1-4F6C-B70D-0D2515450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E6724-3898-41E2-9C58-6F1207C9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1AEA4-63A9-496A-9BE2-0E59542A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5B161-2C90-45FE-A082-32E32375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355AC-19D6-4A08-8EAF-1B62294C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120F-1534-477C-98EC-47CCA877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D2D4B-3C66-40DA-8D27-7898CF69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60F16-80DB-41DD-AA1A-34D23848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98B30-A69D-4300-B7CC-0E861672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2791E-2FE3-4927-90EC-D3E19DBD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DA720-C6ED-47C9-9D8D-213ED4BF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1946C-144D-481E-A5D3-736268B0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89CCC-7F92-4561-8351-68935C921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3127C-8A8B-431A-B27A-B1470B74D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8EE7F-C65E-4468-91EC-864DB11D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59293-B904-46CA-86BB-25F1117D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12F1-F452-45A4-AD04-0D95D52E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E8EFB-2EC3-4625-8ED6-E9BF3700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B06A2-A2DE-46B4-819C-7489A53B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F79B8-1BAC-4113-B8BE-FE2E8D8C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2D069-6D41-4DDB-B29D-FB59B91B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ECB89-9C80-470A-A02F-2751BCC6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F0EAD-6009-4094-B589-4F972101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F8CDD-C07D-41EE-91B4-C240C9DD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E0558-7608-47A9-A700-EBA310A1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AC284-8CF4-4403-B201-046137DF3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50CFA-0BDC-45AC-B47E-2A739B7EE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F47A-FD78-4DB1-8BF0-4B8B1DF2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BBCCE-480E-4A31-96BD-0779FC89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97D43-274A-4DC4-B471-24D40D70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16443-5787-43CF-BADB-B73F2918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9E3B7-5D76-4649-B09F-BBBDC25A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3E026-CFF1-4D3F-BAB2-4204880A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FED24-2E0F-4DF0-B07D-A15BFA61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8FAEC-4A2C-4CD4-9D92-C30624B8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CE08C-6427-4867-8D73-52FBFCB0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DAF1C-84A2-4180-B9E8-26C4345B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05B2E-9182-4F58-9B28-AD8BE81E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C568-2CAE-4592-8864-C2C2C8B5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4EA5F-10D3-4B3D-9463-1042C4A7D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EDC5-1423-448B-908F-D2A13527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9910-F6CA-45DC-BB37-C9060670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76BB-53C0-498C-9BC6-84DE2A5D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E9B1-79B7-4AF4-BF6B-0C1A8118C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5714640" cy="9143280"/>
            <a:chOff x="0" y="0"/>
            <a:chExt cx="5714640" cy="914328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2399760" cy="9143280"/>
              <a:chOff x="0" y="0"/>
              <a:chExt cx="2399760" cy="9143280"/>
            </a:xfrm>
          </p:grpSpPr>
          <p:sp>
            <p:nvSpPr>
              <p:cNvPr id="43" name=""/>
              <p:cNvSpPr/>
              <p:nvPr/>
            </p:nvSpPr>
            <p:spPr>
              <a:xfrm>
                <a:off x="0" y="0"/>
                <a:ext cx="571320" cy="914328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342720" y="0"/>
                <a:ext cx="2057040" cy="15555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171360" y="2641320"/>
              <a:ext cx="5543280" cy="425160"/>
              <a:chOff x="171360" y="2641320"/>
              <a:chExt cx="5543280" cy="425160"/>
            </a:xfrm>
          </p:grpSpPr>
          <p:sp>
            <p:nvSpPr>
              <p:cNvPr id="46" name=""/>
              <p:cNvSpPr/>
              <p:nvPr/>
            </p:nvSpPr>
            <p:spPr>
              <a:xfrm>
                <a:off x="456840" y="2641320"/>
                <a:ext cx="5257800" cy="42300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>
                <a:off x="171360" y="2641320"/>
                <a:ext cx="295200" cy="42516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8160" y="1112400"/>
            <a:ext cx="5750640" cy="13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28560" y="3149640"/>
            <a:ext cx="57708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828440" y="8331120"/>
            <a:ext cx="159876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343040" y="8331120"/>
            <a:ext cx="217332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3360" y="8323200"/>
            <a:ext cx="4399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A861-AB4C-4238-A7CB-6A6C7C48B9B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4400280" cy="9143640"/>
            <a:chOff x="0" y="0"/>
            <a:chExt cx="4400280" cy="9143640"/>
          </a:xfrm>
        </p:grpSpPr>
        <p:sp>
          <p:nvSpPr>
            <p:cNvPr id="90" name=""/>
            <p:cNvSpPr/>
            <p:nvPr/>
          </p:nvSpPr>
          <p:spPr>
            <a:xfrm>
              <a:off x="0" y="0"/>
              <a:ext cx="3429000" cy="914364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4080" y="1320840"/>
              <a:ext cx="3886200" cy="25394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723760" y="6519960"/>
            <a:ext cx="3657960" cy="425160"/>
            <a:chOff x="2723760" y="6519960"/>
            <a:chExt cx="3657960" cy="425160"/>
          </a:xfrm>
        </p:grpSpPr>
        <p:sp>
          <p:nvSpPr>
            <p:cNvPr id="93" name=""/>
            <p:cNvSpPr/>
            <p:nvPr/>
          </p:nvSpPr>
          <p:spPr>
            <a:xfrm flipH="1">
              <a:off x="2723400" y="6519960"/>
              <a:ext cx="3469320" cy="4233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186600" y="6519960"/>
              <a:ext cx="195120" cy="4251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1828440" y="8331120"/>
            <a:ext cx="159876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4343040" y="8331120"/>
            <a:ext cx="217332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57240" y="8330760"/>
            <a:ext cx="44136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5D33-1744-4923-B0F8-0A2EBEC223B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885960" y="1692360"/>
            <a:ext cx="542844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0" y="0"/>
            <a:ext cx="1999800" cy="9143640"/>
            <a:chOff x="0" y="0"/>
            <a:chExt cx="1999800" cy="9143640"/>
          </a:xfrm>
        </p:grpSpPr>
        <p:sp>
          <p:nvSpPr>
            <p:cNvPr id="136" name=""/>
            <p:cNvSpPr/>
            <p:nvPr/>
          </p:nvSpPr>
          <p:spPr>
            <a:xfrm>
              <a:off x="1485720" y="0"/>
              <a:ext cx="514080" cy="914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604880" cy="914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4800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828440" y="2133360"/>
            <a:ext cx="48006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114480" y="8331120"/>
            <a:ext cx="1427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520020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55C8-9C48-435B-87B9-BE1C9C6D8E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91504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3"/>
          </p:nvPr>
        </p:nvSpPr>
        <p:spPr>
          <a:xfrm>
            <a:off x="22824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4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5"/>
          </p:nvPr>
        </p:nvSpPr>
        <p:spPr>
          <a:xfrm>
            <a:off x="525744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5021-469B-4088-BBA3-4AC71E84CC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title"/>
          </p:nvPr>
        </p:nvSpPr>
        <p:spPr>
          <a:xfrm>
            <a:off x="628200" y="1828800"/>
            <a:ext cx="5715000" cy="2743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680" y="1015920"/>
            <a:ext cx="5943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99"/>
                </a:solidFill>
                <a:latin typeface="Arial"/>
              </a:rPr>
              <a:t>Размерные признаки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3149640"/>
            <a:ext cx="57708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197000" y="3780000"/>
            <a:ext cx="4602240" cy="47671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3573360" y="324000"/>
            <a:ext cx="2828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хнолог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997360" y="8317080"/>
            <a:ext cx="3609720" cy="6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читель: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ыхрикова А.В.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7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770" fill="hold"/>
                                        <p:tgtEl>
                                          <p:spTgt spid="2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2195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Длина переда до талии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 (Дтп) - измеряется от высшей точки плеча через наиболее выступающую точку груди до нижнего края ленты на талии. Это измерение в сочетании с измерением Дтс очень важно для правильного баланса изде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2195280"/>
            <a:ext cx="6858000" cy="694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125360" y="2173320"/>
            <a:ext cx="4699080" cy="69706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89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Длина спинки до талии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(Дтс) - измеряется от вершины плеча через наиболее выступающую точку лопатки до нижнего края ленты на линии талии. В некоторых методиках длину спины измеряют по позвоночнику - от 7-го шейного позвонка до нижнего края ленты, завязанной на тал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835280"/>
            <a:ext cx="6858000" cy="730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197000" y="1835280"/>
            <a:ext cx="4552920" cy="6984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15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Ширина плеча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(Шп)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- измеряется от основания шеи до точки сочленения плеча с рукой. Обычно, это измерение совмещают с измерением длины ру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1476000"/>
            <a:ext cx="6858000" cy="766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981000" y="1403280"/>
            <a:ext cx="5038920" cy="74739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89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Ширина спины (Шс)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 - измеряется горизонтально по наиболее выступающим точкам лопаток между задними углами подмышечных впаден от одной руки до друг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0" y="1835280"/>
            <a:ext cx="6858000" cy="730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981000" y="1995480"/>
            <a:ext cx="4818240" cy="71485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176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Обхват шеи (Ош)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- измеряют вокруг шеи по основ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1763280"/>
            <a:ext cx="6858000" cy="738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052640" y="1692360"/>
            <a:ext cx="4805280" cy="7127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89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Длина руки до запястья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(Друк) - измеряют по слегка согнутой руке от точки сочленения плеча с рукой до запяст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1835280"/>
            <a:ext cx="6858000" cy="730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484280" y="2050920"/>
            <a:ext cx="4100400" cy="6821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89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Длина от линии талии сбоку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 (Дсб) - измеряется по боку до желаемой длины, а для брюк, в некоторых системах, - еще и до центра коленной чашечк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835280"/>
            <a:ext cx="6858000" cy="730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700280" y="1835280"/>
            <a:ext cx="3682800" cy="7308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15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Длина от линии талии спереди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(Дсп)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- измеряется посередине перед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1547280"/>
            <a:ext cx="6858000" cy="7596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700280" y="1476360"/>
            <a:ext cx="3619440" cy="7667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4800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12640" y="0"/>
            <a:ext cx="5445000" cy="9144000"/>
          </a:xfrm>
          <a:prstGeom prst="rect">
            <a:avLst/>
          </a:prstGeom>
          <a:gradFill rotWithShape="0">
            <a:gsLst>
              <a:gs pos="0">
                <a:srgbClr val="c58bf9"/>
              </a:gs>
              <a:gs pos="100000">
                <a:srgbClr val="9966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Каждый размерный признак обозначается заглавной буквой с индексом. Заглавная буква обозначает вид измерения, а индекс-участок, на котором производится измерение: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высо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обхва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ширина,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дли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полуобхв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расстояние между      центр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4800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57360" y="0"/>
            <a:ext cx="5300640" cy="9144000"/>
          </a:xfrm>
          <a:prstGeom prst="rect">
            <a:avLst/>
          </a:prstGeom>
          <a:gradFill rotWithShape="0">
            <a:gsLst>
              <a:gs pos="0">
                <a:srgbClr val="c58bf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Некоторые поперечные измерения (обхваты и ширина) измеряются полностью, а записываются в половинном размере (т.к. чертеж строится на половину фигуры), и в этом случае обхваты обозначают как полуобхваты (т.е. С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се высоты измеряются в проекции на вертикальную плоскость, т.е. точку переносим на вертикальную плоскость (например, на стену) и измеряем от нее длину до пола (как, например, рост).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4800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628640" y="0"/>
            <a:ext cx="5229360" cy="914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58bf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ff"/>
                </a:solidFill>
                <a:latin typeface="Arial"/>
              </a:rPr>
              <a:t>Полнотная группа</a:t>
            </a:r>
            <a:r>
              <a:rPr b="0" lang="ru-RU" sz="2800" spc="-1" strike="noStrike">
                <a:solidFill>
                  <a:srgbClr val="9966ff"/>
                </a:solidFill>
                <a:latin typeface="Arial"/>
              </a:rPr>
              <a:t> — это разница между обхватом бедер и обхватом груди у женщин и обхватом груди и обхватом талии у мужчин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ff"/>
                </a:solidFill>
                <a:latin typeface="Arial"/>
              </a:rPr>
              <a:t>Существуют 4 полнотные группы женщи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9966ff"/>
                </a:solidFill>
                <a:latin typeface="Arial"/>
              </a:rPr>
              <a:t>1 группа</a:t>
            </a:r>
            <a:r>
              <a:rPr b="0" lang="ru-RU" sz="2800" spc="-1" strike="noStrike">
                <a:solidFill>
                  <a:srgbClr val="9966ff"/>
                </a:solidFill>
                <a:latin typeface="Arial"/>
              </a:rPr>
              <a:t> — разница между Об и Ог = 4 с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99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66ff"/>
                </a:solidFill>
                <a:latin typeface="Arial"/>
              </a:rPr>
              <a:t>2 группа</a:t>
            </a:r>
            <a:r>
              <a:rPr b="0" lang="ru-RU" sz="2800" spc="-1" strike="noStrike">
                <a:solidFill>
                  <a:srgbClr val="9966ff"/>
                </a:solidFill>
                <a:latin typeface="Arial"/>
              </a:rPr>
              <a:t> - разница между Об и Ог = 8 см,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66ff"/>
                </a:solidFill>
                <a:latin typeface="Arial"/>
              </a:rPr>
              <a:t>3 группа</a:t>
            </a:r>
            <a:r>
              <a:rPr b="0" lang="ru-RU" sz="2800" spc="-1" strike="noStrike">
                <a:solidFill>
                  <a:srgbClr val="9966ff"/>
                </a:solidFill>
                <a:latin typeface="Arial"/>
              </a:rPr>
              <a:t> — разница между Об и Ог = 12 с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9966ff"/>
                </a:solidFill>
                <a:latin typeface="Arial"/>
              </a:rPr>
              <a:t>4 группа</a:t>
            </a:r>
            <a:r>
              <a:rPr b="0" lang="ru-RU" sz="2800" spc="-1" strike="noStrike">
                <a:solidFill>
                  <a:srgbClr val="9966ff"/>
                </a:solidFill>
                <a:latin typeface="Arial"/>
              </a:rPr>
              <a:t> — разница между Oб и Ог = 16 см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66280" y="0"/>
            <a:ext cx="582948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Снятие мерок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5000" y="1307880"/>
            <a:ext cx="658800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В различных системах кроя мерки снимаются немного по-разному. Ниже описаны наиболее распространенные варианты измерения фигуры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36640" y="2987640"/>
            <a:ext cx="5283000" cy="5473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176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Обхват талии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(От)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- Сантиметровая лента проходит строго горизонтально по фиксирующей ленте по самому тонкому месту туловища с легким натя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692000"/>
            <a:ext cx="6858000" cy="7451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413000" y="1692360"/>
            <a:ext cx="4032000" cy="7127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1523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Обхват бедер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(Об)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- Сантиметровая лента проходит строго горизонтально по бедрам: сзади - на уровне выступающих точек ягодичных мышц, спереди - с учетом выступа жив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476000"/>
            <a:ext cx="6858000" cy="766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484280" y="2124000"/>
            <a:ext cx="4141800" cy="6610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89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Обхват груди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(Ог)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- Измеряется горизонтально по наиболее выступающим точкам гру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763280"/>
            <a:ext cx="6858000" cy="738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268280" y="1979640"/>
            <a:ext cx="4456080" cy="6608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176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Высота груди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(Вг) - Измерение определяет положение линии груди на чертеже. В разных системах кроя снимают мерку либо от плеча до центра груди, либо от центра груди до линии тал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692000"/>
            <a:ext cx="6858000" cy="7451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052640" y="1692360"/>
            <a:ext cx="4892400" cy="72579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19:00:00Z</dcterms:created>
  <dc:creator>алексей</dc:creator>
  <dc:description/>
  <dc:language>en-US</dc:language>
  <cp:lastModifiedBy>алексей</cp:lastModifiedBy>
  <dcterms:modified xsi:type="dcterms:W3CDTF">2009-03-03T12:39:33Z</dcterms:modified>
  <cp:revision>4</cp:revision>
  <dc:subject/>
  <dc:title>Снятие мерок </dc:title>
</cp:coreProperties>
</file>