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5.wmf" ContentType="image/x-wmf"/>
  <Override PartName="/ppt/media/image15.jpeg" ContentType="image/jpeg"/>
  <Override PartName="/ppt/media/image22.wmf" ContentType="image/x-wmf"/>
  <Override PartName="/ppt/media/image20.jpeg" ContentType="image/jpeg"/>
  <Override PartName="/ppt/media/image21.jpeg" ContentType="image/jpeg"/>
  <Override PartName="/ppt/media/image32.wmf" ContentType="image/x-wmf"/>
  <Override PartName="/ppt/media/image19.wmf" ContentType="image/x-wmf"/>
  <Override PartName="/ppt/media/image17.jpeg" ContentType="image/jpeg"/>
  <Override PartName="/ppt/media/image16.wmf" ContentType="image/x-wmf"/>
  <Override PartName="/ppt/media/image14.wmf" ContentType="image/x-wmf"/>
  <Override PartName="/ppt/media/image10.wmf" ContentType="image/x-wmf"/>
  <Override PartName="/ppt/media/image31.jpeg" ContentType="image/jpeg"/>
  <Override PartName="/ppt/media/image2.png" ContentType="image/png"/>
  <Override PartName="/ppt/media/image8.jpeg" ContentType="image/jpeg"/>
  <Override PartName="/ppt/media/image35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37.wmf" ContentType="image/x-wmf"/>
  <Override PartName="/ppt/media/image33.jpeg" ContentType="image/jpeg"/>
  <Override PartName="/ppt/media/image6.jpeg" ContentType="image/jpeg"/>
  <Override PartName="/ppt/media/image27.jpeg" ContentType="image/jpeg"/>
  <Override PartName="/ppt/media/image3.jpeg" ContentType="image/jpeg"/>
  <Override PartName="/ppt/media/image28.wmf" ContentType="image/x-wmf"/>
  <Override PartName="/ppt/media/image13.jpeg" ContentType="image/jpeg"/>
  <Override PartName="/ppt/media/image40.jpeg" ContentType="image/jpeg"/>
  <Override PartName="/ppt/media/image36.wmf" ContentType="image/x-wmf"/>
  <Override PartName="/ppt/media/image39.wmf" ContentType="image/x-wmf"/>
  <Override PartName="/ppt/media/image12.wmf" ContentType="image/x-wmf"/>
  <Override PartName="/ppt/media/image11.jpeg" ContentType="image/jpeg"/>
  <Override PartName="/ppt/media/image9.jpeg" ContentType="image/jpeg"/>
  <Override PartName="/ppt/media/image23.wmf" ContentType="image/x-wmf"/>
  <Override PartName="/ppt/media/image5.jpeg" ContentType="image/jpeg"/>
  <Override PartName="/ppt/media/image18.wmf" ContentType="image/x-wmf"/>
  <Override PartName="/ppt/media/image26.jpeg" ContentType="image/jpeg"/>
  <Override PartName="/ppt/media/image34.wmf" ContentType="image/x-wmf"/>
  <Override PartName="/ppt/media/image4.wmf" ContentType="image/x-wmf"/>
  <Override PartName="/ppt/media/image1.wmf" ContentType="image/x-wmf"/>
  <Override PartName="/ppt/media/image38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F730-7A00-4364-A837-1957952F7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AFA-6A38-4242-B4BD-DEBEC091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0826-9AA6-4FD0-8937-57FBCEA42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C520-75C7-47B0-81E1-A950EF505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339C-9418-47CD-876E-B34A8D221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5F04C-4FD7-4D12-9ADE-0A4AF42A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E283-BE16-467D-B648-FC76B9540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D56D-8060-45AC-BE26-63C5A9D6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8ACB-5141-4DD0-9149-5232B3AE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4EBF-0DC9-4B67-AC7D-E4194C9CA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7875-01AC-4F73-A950-ADBFC8E0C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89E8-9703-414D-A1E4-29434CAF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48A1-6AFF-444D-89E7-68922670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7CD8-3D96-4DB8-B61B-5322759E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67BA-E2DA-456B-B21F-12B94CD5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C9EDA-6DE6-4C1F-B7C8-32CA8559B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FF58-5528-415E-BD8A-E90F68164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EDF3E-8BA0-48D6-B737-9E74331C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19AE2B-8AA8-4276-A550-D6B2FA69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FFAD51-2490-4AB2-9A87-7E33C34C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709000-17F0-45A4-8431-0F5BFD87B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58BDAE-0510-4284-A057-B114BEE3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87A7-60AC-461D-AC00-264930331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332CA7-D802-47B4-B600-54159982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5F0E9-744D-4641-96A4-DEA048AA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5C39F3-D002-4994-BF22-47912D5C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A8570C-6A42-47CC-B351-2DE3175F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82575E-DA9E-4665-B1B9-8F68D2479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8464D2-5BB4-48DD-971D-058603F57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BF2EB-AB87-40CF-AA91-24E3751E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63FE1-81C7-468B-8F4D-607B5F97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E64FE-35B8-47F3-8F04-FFE76206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3C40A-59A4-4CF1-AFB2-76A53ECF4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9C58-5250-40E4-90E4-577391FD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D0B91-EA6A-4874-8EF2-38DA6236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0E699F-1D99-45F8-88D0-8A0F07DE4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43332-7EE3-43FD-95DF-C6CF4C009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1C172-EAE9-41A9-9349-C2BED17F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B5EBA-B45C-4C0E-8C6A-283930FD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9F9647-13C9-43FD-A751-231D59CA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F9CF9-76E0-40C4-92E4-1A1A662F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14F7A-BDE6-4A24-B848-009BBFDB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10C43-9275-470B-9E27-8C38B4FB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DE361-52AF-40B1-BD1C-AA01259A4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8750-5485-4C5A-9107-B61DF3D50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C7460-472B-4DBD-812C-A6C986DD8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16355-EA37-4107-88F7-6B57E761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EE0FD-3FAC-41F2-B3AA-F97958C6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73A80-35AE-4D09-A8E8-360F1A7D3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E88FD-33A0-4123-AA0C-3CA2D0C2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D9D20-19FD-46CE-84B5-E1EA3111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D8FC4-3DB9-46DB-9448-91177786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926A1-8C5A-4274-AA9F-24CD85D9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5EBA6-9472-45FA-81C6-75A5DEFB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5C0FB-299F-4298-AEB5-985BB98E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0CFB-B648-46C0-9314-460A6EAE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18C830-61DD-489A-8B4B-AE6069C79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94A9C-C145-4427-BFF2-AAF356590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CB544B-152B-430F-957D-238643349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166E1-0EF6-444A-9B3F-7AE3BBDDE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C2DE1F-2AC4-400F-A3FB-92D7D9BB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63B7B-7494-44CF-AEE3-4AD5B0AE0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0A9C3-157A-4040-8F52-679BACC5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AD666-03DD-464B-A2BC-616457F4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F2F27-AE87-4D7F-8475-7F38F43A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F3012-3731-429F-A0F6-1342425D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B4E8-7774-44F3-89F8-E2B17623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7B626-CBCD-4794-A7D9-50E4AF54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1240A-C3D9-45B7-929E-1A4FEA062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0B0720-2C9E-4259-8C6D-54EC530B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2C09BA-ADA2-4D31-890D-EE3F31D52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8F7CB5-DEF5-46C0-AA2F-8013CC91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5C594-649B-4630-9CBA-35D1A9B45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DB29A-00A0-4C88-8981-120800FB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47F64-6660-45F8-9401-121A0457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7761B-CF82-4779-BFE6-0F941F36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DD9D1-C650-4EC9-B36A-C81E6D3C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A3AA-C375-4A35-AC61-55E77157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633F3-2B2B-4919-8947-ED0E3F74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0968F-91E8-4B4E-9975-2DB4E3DBC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1BD39-A9AE-482C-BAF2-190D567E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7CB90-5B98-4844-A4F9-7B95F1A9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45FDF-AE0A-4002-B9F0-2507D26E9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41B6-A087-423E-A937-482E6A4C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2306-BAE6-45C8-A01A-70CF2DA8F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74A0A-F7B7-474E-B716-53AD38335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20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7027-6422-4C88-9922-8B72CF9FF85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dt" idx="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83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F133-F1BA-4C5C-ACCD-A9A47BEBE95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B9BF-DD22-41BB-B1E4-D9D8B6D9B9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87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B67F3-252E-4DAC-B187-FDB40C1981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332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dt" idx="1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ftr" idx="2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2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7A7F8-F221-4A56-A31D-65A9DB000BC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56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56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jpeg"/><Relationship Id="rId3" Type="http://schemas.openxmlformats.org/officeDocument/2006/relationships/image" Target="../media/image37.wmf"/><Relationship Id="rId4" Type="http://schemas.openxmlformats.org/officeDocument/2006/relationships/image" Target="../media/image37.wmf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3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6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6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532720" y="-530028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258920" y="1773360"/>
            <a:ext cx="6696000" cy="3240000"/>
          </a:xfrm>
          <a:prstGeom prst="rect">
            <a:avLst/>
          </a:prstGeom>
          <a:solidFill>
            <a:srgbClr val="a1f2f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Разновидности вид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Arial"/>
              </a:rPr>
              <a:t>тка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 rot="5400000">
            <a:off x="756360" y="-1143720"/>
            <a:ext cx="7631280" cy="914400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8686440" y="1522440"/>
            <a:ext cx="206280" cy="7776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6012000" y="189000"/>
            <a:ext cx="28288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технолог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50920" y="6237360"/>
            <a:ext cx="23050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учитель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Ныхрикова А.В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" dur="5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bbe2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00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4433760" cy="6093000"/>
          </a:xfrm>
          <a:prstGeom prst="rect">
            <a:avLst/>
          </a:prstGeom>
          <a:solidFill>
            <a:srgbClr val="e3bbe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ff"/>
                </a:solidFill>
                <a:latin typeface="Tahoma"/>
              </a:rPr>
              <a:t>      </a:t>
            </a:r>
            <a:r>
              <a:rPr b="1" i="1" lang="ru-RU" sz="1600" spc="-1" strike="noStrike">
                <a:solidFill>
                  <a:srgbClr val="ff00ff"/>
                </a:solidFill>
                <a:latin typeface="Tahoma"/>
              </a:rPr>
              <a:t>От фр. velours – бархат, от лат. villosus – волосатый, мохнатый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bf25a"/>
              </a:buClr>
              <a:buSzPct val="8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ff"/>
                </a:solidFill>
                <a:latin typeface="Tahoma"/>
              </a:rPr>
              <a:t>мягкая ворсованная ткань из пряжи суконного прядения с низким, очень тонким ворсом. Изготовляется из хлопка, шерсти или хлопковой основы и шелкового или мохерового утка, а также из синтетических волокон. Одна из самых ценных велюровых тканей - драп-велюр, для изготовления которой используют лучшие сорта мериносовой шерсти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ff"/>
                </a:solidFill>
                <a:latin typeface="Tahoma"/>
              </a:rPr>
              <a:t>2) Кожа хромового дубления (хромовая замша), выработанная из плотных мелких шкур рогатого скота или свиней с поврежденной лицевой поверхностью и отделанная со стороны бахтармы под бархат. Используют преимущественно для изготовления некоторых видов верхней одежды и обуви. Синтетический велюр (искусственная замша) внешне имитирует натуральны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ff00ff"/>
                </a:solidFill>
                <a:latin typeface="Tahoma"/>
              </a:rPr>
              <a:t>3) Фетр с коротким, густым и мягким ворсом.</a:t>
            </a:r>
            <a:r>
              <a:rPr b="1" i="1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3529080" cy="346536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5364000" y="-243000"/>
            <a:ext cx="4270680" cy="56502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68360" y="0"/>
            <a:ext cx="420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Велюр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4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e3bb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рсовая ткан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solidFill>
            <a:srgbClr val="e3bbe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Ткань, на поверхности которой (обычно с одной стороны) имеется ворс, состоящий из густо расположенных вертикальных концов нитей. Ворс образуется разрезанием нитей ворсовой основы или ворсового утка, дополнительных к обычным основе и утку. К ворсовым тканям с основным ворсом относятся плюш, бархат, искусственный мех, ковры. Уточно-ворсовые ткани — полубархат, плис, вельв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2556000" y="3500280"/>
            <a:ext cx="4895640" cy="335772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solidFill>
            <a:srgbClr val="a1f2fd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Times New Roman"/>
              </a:rPr>
              <a:t>Винил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solidFill>
            <a:srgbClr val="a1f2f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i="1" lang="en-US" sz="20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9900ff"/>
                </a:solidFill>
                <a:latin typeface="Arial"/>
              </a:rPr>
              <a:t>Искусственная кожа.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ff"/>
                </a:solidFill>
                <a:latin typeface="Arial"/>
              </a:rPr>
              <a:t>               </a:t>
            </a:r>
            <a:r>
              <a:rPr b="0" i="1" lang="en-US" sz="2000" spc="-1" strike="noStrike">
                <a:solidFill>
                  <a:srgbClr val="9900ff"/>
                </a:solidFill>
                <a:latin typeface="Arial"/>
              </a:rPr>
              <a:t>Винил вошел в моду в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ff"/>
                </a:solidFill>
                <a:latin typeface="Arial"/>
              </a:rPr>
              <a:t>              </a:t>
            </a:r>
            <a:r>
              <a:rPr b="0" i="1" lang="en-US" sz="2000" spc="-1" strike="noStrike">
                <a:solidFill>
                  <a:srgbClr val="9900ff"/>
                </a:solidFill>
                <a:latin typeface="Arial"/>
              </a:rPr>
              <a:t>1960-е гг. Винил           обычно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ff"/>
                </a:solidFill>
                <a:latin typeface="Arial"/>
              </a:rPr>
              <a:t>                  </a:t>
            </a:r>
            <a:r>
              <a:rPr b="0" i="1" lang="en-US" sz="2000" spc="-1" strike="noStrike">
                <a:solidFill>
                  <a:srgbClr val="9900ff"/>
                </a:solidFill>
                <a:latin typeface="Arial"/>
              </a:rPr>
              <a:t>бывает черного или ярки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ff"/>
                </a:solidFill>
                <a:latin typeface="Arial"/>
              </a:rPr>
              <a:t>                    </a:t>
            </a:r>
            <a:r>
              <a:rPr b="0" i="1" lang="en-US" sz="2000" spc="-1" strike="noStrike">
                <a:solidFill>
                  <a:srgbClr val="9900ff"/>
                </a:solidFill>
                <a:latin typeface="Arial"/>
              </a:rPr>
              <a:t>флуоресцентных цве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00ff"/>
                </a:solidFill>
                <a:latin typeface="Arial"/>
              </a:rPr>
              <a:t>                 </a:t>
            </a:r>
            <a:r>
              <a:rPr b="0" i="1" lang="en-US" sz="2000" spc="-1" strike="noStrike">
                <a:solidFill>
                  <a:srgbClr val="9900ff"/>
                </a:solidFill>
                <a:latin typeface="Arial"/>
              </a:rPr>
              <a:t>То же, что поливинилхлори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 rot="5400000">
            <a:off x="-570600" y="-1653480"/>
            <a:ext cx="10394640" cy="1062216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4572000" y="1628640"/>
            <a:ext cx="4167360" cy="4089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20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2000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2000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2000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2000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2000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6a3a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9528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От фр. guipure — воздушная вышивка. Плотное кружевное машинное полотно для изготовления женских блузок и платьев, воротников, манишек, манжет, вставо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5148360" y="1773360"/>
            <a:ext cx="3411360" cy="334944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0" y="-892080"/>
            <a:ext cx="9144000" cy="87836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3419640" y="907920"/>
            <a:ext cx="177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ипю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5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2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2775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Гофре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ff"/>
                </a:solidFill>
                <a:latin typeface="Tahom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539640" y="0"/>
            <a:ext cx="7993080" cy="25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00"/>
                </a:solidFill>
                <a:latin typeface="Arial"/>
              </a:rPr>
              <a:t>Гаф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ff"/>
                </a:solidFill>
                <a:latin typeface="Arial"/>
              </a:rPr>
              <a:t>От фр. gaufre — вафли. Параллельные складки «гармошкой», которые, в отличие от плиссе, заутюжены не набок, а перпендикулярно детали. В Европе их также называют «аккордеонным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2"/>
          <a:stretch/>
        </p:blipFill>
        <p:spPr>
          <a:xfrm>
            <a:off x="3059280" y="2422440"/>
            <a:ext cx="3241440" cy="3189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ff"/>
                </a:solidFill>
                <a:latin typeface="Arial"/>
              </a:rPr>
              <a:t>Драп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250920" y="981000"/>
            <a:ext cx="4968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От фр. drap — сукно. Общее название тяжелых плотных шерстяных тканей сложного переплетения из пряжи аппаратного (суконного) прядения. Бывают однолицевые и двухлицевые. По характеру ворсовой поверхности различаются гладкий драп, драп-велюр, драп-ратин, драп-кастор, драп-моль, драп-флаконэ. Драп-велюр вырабатывается из тонкой шерсти и ворсом напоминает бархат. Драп-ратин гладкокрашеный или меланжевый — мягкий, толстый, с ворсом, уложенным в диагоналевую полоску или в «елочку», с закатанным в «горошек» или завитым спиралями ворсом. Драп-кастор или кастор — плотный гладкокрашеный драп из тонкой шерсти по основе и утку; вырабатывают сложным переплетением с атласным лицевым застилом. Драп-моль — особо мягкий, двухслойный драп с легкой пушистой лицевой поверхностью, вырабатывается из тонкой шерсти, иногда с добавлением в пряжу для лицевых нитей тонкого козьего пуха. Драп-флаконэ — гладкокрашеный мягкий толстый ратинированный драп.</a:t>
            </a: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8721720" y="3860640"/>
            <a:ext cx="63360" cy="78120"/>
          </a:xfrm>
          <a:prstGeom prst="rect">
            <a:avLst/>
          </a:prstGeom>
          <a:ln w="0">
            <a:noFill/>
          </a:ln>
        </p:spPr>
      </p:pic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5580000" y="1413000"/>
            <a:ext cx="3051360" cy="3859200"/>
          </a:xfrm>
          <a:prstGeom prst="rect">
            <a:avLst/>
          </a:prstGeom>
          <a:ln w="0">
            <a:noFill/>
          </a:ln>
        </p:spPr>
      </p:pic>
      <p:pic>
        <p:nvPicPr>
          <p:cNvPr id="442" name="" descr=""/>
          <p:cNvPicPr/>
          <p:nvPr/>
        </p:nvPicPr>
        <p:blipFill>
          <a:blip r:embed="rId3"/>
          <a:stretch/>
        </p:blipFill>
        <p:spPr>
          <a:xfrm rot="5400000">
            <a:off x="790920" y="-1502640"/>
            <a:ext cx="7489800" cy="972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cc00"/>
                </a:solidFill>
                <a:latin typeface="Arial"/>
              </a:rPr>
              <a:t>Креп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780000" y="1196640"/>
            <a:ext cx="536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8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808080"/>
                </a:solidFill>
                <a:latin typeface="Arial"/>
              </a:rPr>
              <a:t>От фр. сrepe.-особая крутка ни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80"/>
                </a:solidFill>
                <a:latin typeface="Arial"/>
              </a:rPr>
              <a:t>                      </a:t>
            </a:r>
            <a:r>
              <a:rPr b="1" i="1" lang="ru-RU" sz="1600" spc="-1" strike="noStrike">
                <a:solidFill>
                  <a:srgbClr val="808080"/>
                </a:solidFill>
                <a:latin typeface="Arial"/>
              </a:rPr>
              <a:t>Шелковая или шерстяная ткань, для     основы которой применяют туго скрученную нить, а для утка — некрученую. В результате разного натяжения образовывается характерная шероховатая поверхнос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808080"/>
                </a:solidFill>
                <a:latin typeface="Arial"/>
              </a:rPr>
              <a:t>          </a:t>
            </a:r>
            <a:r>
              <a:rPr b="1" i="1" lang="ru-RU" sz="1600" spc="-1" strike="noStrike">
                <a:solidFill>
                  <a:srgbClr val="808080"/>
                </a:solidFill>
                <a:latin typeface="Arial"/>
              </a:rPr>
              <a:t>Общее название натуральных и искусственных тканей, главным образом шелковых, с характерной мелко шероховатой поверхностью, вырабатываемых из нитей креповой крутки, а также в некоторых случаях специальными (креповыми) переплетениями. Среди крепов наиболее известны крепдешин, креп-шифон, креп-жоржет, креп-сатин. Кроме того, вырабатывают полушелковые, хлопковые, шерстяные и полушерстяные крепы, а также крепы из искусственных и синтетических нитей. В последних креповый эффект достигается главным образом благодаря креповым и другим мелкоузорчатым переплетениям, иногда без креповой крутки.</a:t>
            </a:r>
            <a:r>
              <a:rPr b="0" lang="ru-RU" sz="16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84360" y="2781360"/>
            <a:ext cx="3340080" cy="32781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-1620720" y="-2619360"/>
            <a:ext cx="12169800" cy="12960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5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Крепдешин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т фр. crepe de Chine — китайский креп. Классическая полукреповая ткань полотняного переплетения. Одна из самых широко распространенных тканей из натурального шелка. К. вырабатывают из нитей креповой крутки в утке и нитей шелка-сырца в основе. Ткань имеет зернистую поверхность и мягкий характерный блеск. Бывает отбеленной, гладкокрашеной в разные цвета, с набивными рисунками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5003640" y="2060640"/>
            <a:ext cx="3924360" cy="385452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8686800" y="3938760"/>
            <a:ext cx="84240" cy="69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ec94"/>
                </a:solidFill>
                <a:latin typeface="Times New Roman"/>
              </a:rPr>
              <a:t>Парча</a:t>
            </a: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тюрк. parca — парча, узор. Ткань с шелковой основой, содержащая в утке металлические нити. В старинной парче использовались нити из драгоценных металлов — золота и серебра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4859280" y="2205000"/>
            <a:ext cx="4103640" cy="40276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4648320" y="3941280"/>
            <a:ext cx="4038480" cy="2189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Плюш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 нем. Plusch, лат. pilus — волос. Ткань с мягким ворсом на лицевой стороне. Изготовление его аналогично изготовлению бархата. Отличается от бархата более высоким (до 6 мм) и менее густым ворсом. В зависимости от вида ворса различают плюш разрезной и неразрезной (петельный), а от способа выработки и отделки — гладкий, рисунчатый, тисненый и др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5435640" y="1916280"/>
            <a:ext cx="3195720" cy="31384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-1116000" y="-674640"/>
            <a:ext cx="11702880" cy="7991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bb3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427280" y="1412640"/>
            <a:ext cx="4244760" cy="5111640"/>
          </a:xfrm>
          <a:prstGeom prst="rect">
            <a:avLst/>
          </a:prstGeom>
          <a:solidFill>
            <a:srgbClr val="e6ebb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От голл. sits, санскр. sitras — пестрый. Легкая хлопчатобумажная ткань полотняного переплетения, получаемая в результате отделки разных сортов сурового миткаля. Бывает гладкокрашеным или набивным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3807000" cy="373680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 rot="5400000">
            <a:off x="809280" y="-1593720"/>
            <a:ext cx="7417080" cy="1011888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835280" y="160200"/>
            <a:ext cx="396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Сите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Сатин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От франц. satin. Хлопчатобумажная или из химического волокна ткань сатинового переплетения с гладкой блестящей лицевой поверхность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5435640" y="2205000"/>
            <a:ext cx="3267000" cy="320688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 rot="5400000">
            <a:off x="864000" y="-1864440"/>
            <a:ext cx="7775640" cy="10441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6" dur="20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Трикотаж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276720" y="836640"/>
            <a:ext cx="5626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9933"/>
                </a:solidFill>
                <a:latin typeface="Arial"/>
              </a:rPr>
              <a:t>Трикотаж (франц. tricotage, от tricoter — вязать) (вязаное полотно) состоит из петель и создается последовательным протягиванием нити сквозь петли предыдущего ряда вязания. Поэтому словосочетание «трикотажная ткань» звучит примерно так же, как «железная деревячка». По структуре трикотаж подразделяется на поперечновязаный (кулирный) и продольновязанный (основовязаный), одинарный и двойной (более плотный и тяжелый), гладкий и рисунчатый. Трикотаж используется для изготовления одежды, сетей, технических и медицинских изделий и т. п. На протяжении веков трикотажные изделия вырабатывались вручную, на спицах. С развитием производства стало возможным вязать широкие и длинные полотнища (джерси), из которых выкраивают отдельные детали изделия, а потом сшивают на оверлоке — краеобметочной машине. Такие изделия стоят дешевле, поскольку экономится время на их изготовление. Наиболее качественные и, следовательно, дорогие предметы из трикотажа вывязываются строго по контуру деталей, а затем собираются на специальной машине без обметывания краев. Этот трикотаж лучше сидит на фигуре и дольше служит. Основными параметрами, характеризующими текстильные материалы, являются фактура и текстура, гриф и туше. Текстура и фактура тесно связаны друг с друг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468360" y="2205000"/>
            <a:ext cx="3024000" cy="296856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>
            <a:off x="-181080" y="-387360"/>
            <a:ext cx="9936360" cy="7245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2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20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2000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cc"/>
                </a:solidFill>
                <a:latin typeface="Tahoma"/>
              </a:rPr>
              <a:t>Фланель</a:t>
            </a:r>
            <a:br>
              <a:rPr sz="3800"/>
            </a:b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971640" y="1483920"/>
            <a:ext cx="35352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т франц. flanelle. Мягкая хлопчатобумажная или шерстяная ткань с двусторонним начесом. Из фланели шьют белье, женское или детское платье, костюмы и т. п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3529080" cy="346536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0" y="5913360"/>
            <a:ext cx="9325080" cy="9446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 rot="5400000">
            <a:off x="-2957760" y="2957400"/>
            <a:ext cx="6858000" cy="94284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 rot="5400000">
            <a:off x="5430240" y="2957400"/>
            <a:ext cx="6858000" cy="942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2" dur="500"/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-1549440" y="-747720"/>
            <a:ext cx="11377800" cy="85694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448160" y="2349360"/>
            <a:ext cx="31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484360" y="981000"/>
            <a:ext cx="3384720" cy="40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9900ff"/>
                </a:solidFill>
                <a:latin typeface="Arial"/>
              </a:rPr>
              <a:t>От франц. chiffon, букв. — тряпка. Тонкая шелковистая хлопчатобумажная ткань полотняного переплетения повышенной плотности. Шелковый Ш. разных цветов и оттенков получил распространение с 1900-х гг. Излюбленная ткань эпохи ар нуво. Применяют для пошива белья, блузок, платьев, а также в химической промышленност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134520" y="26028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Шифо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5940360" y="1052640"/>
            <a:ext cx="2908440" cy="3940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6ebb3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4680000" cy="4653000"/>
          </a:xfrm>
          <a:prstGeom prst="rect">
            <a:avLst/>
          </a:prstGeom>
          <a:solidFill>
            <a:srgbClr val="e6ebb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ff9933"/>
                </a:solidFill>
                <a:latin typeface="Tahoma"/>
              </a:rPr>
              <a:t>Простейшее и наиболее распространенное ткацкое переплетение нитей. Раппорт его состоит из двух основных и двух уточных нитей. Существует огромное количество тканей механического ткачества полотняного переплетения под разными названиями — в зависимости от вида сырья и областей использования: холст для картин, холсты различной плотности из джутовой пряжи; простынное полотно (беленое и небеленое) из хлопчатобумажной пряжи; бязь, миткаль из хлопчатобумажной пряжи; полотно для наперников; батист; брезентовое полотно; льняная канва для вышивок; марля и др.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5003640" y="1557360"/>
            <a:ext cx="3915000" cy="384336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8686800" y="4149720"/>
            <a:ext cx="133200" cy="7128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9143640" y="1412640"/>
            <a:ext cx="82440" cy="3157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116000" y="507960"/>
            <a:ext cx="74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олотняное переплет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e6ebb3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0000"/>
                </a:solidFill>
                <a:latin typeface="Tahoma"/>
              </a:rPr>
              <a:t>Бязь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solidFill>
            <a:srgbClr val="e6ebb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33"/>
                </a:solidFill>
                <a:latin typeface="Tahoma"/>
              </a:rPr>
              <a:t>Хлопчатобумажная ткань полотняного переплетения, прочная, вид толстого миткаля. Привозилась из Средней Азии, а в XIX в. стала производиться в России. Из бязи шьют постельное белье, нижние юбки, летние платья в фольклорном стиле, используют для макетирования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916360" y="4005360"/>
            <a:ext cx="4103640" cy="25714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e6ebb3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0000"/>
                </a:solidFill>
                <a:latin typeface="Tahoma"/>
              </a:rPr>
              <a:t>Атлас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780000" y="1628640"/>
            <a:ext cx="5122800" cy="4997520"/>
          </a:xfrm>
          <a:prstGeom prst="rect">
            <a:avLst/>
          </a:prstGeom>
          <a:solidFill>
            <a:srgbClr val="e6ebb3"/>
          </a:solidFill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9933"/>
                </a:solidFill>
                <a:latin typeface="Tahoma"/>
              </a:rPr>
              <a:t>    </a:t>
            </a:r>
            <a:r>
              <a:rPr b="0" i="1" lang="ru-RU" sz="2800" spc="-1" strike="noStrike">
                <a:solidFill>
                  <a:srgbClr val="ff9933"/>
                </a:solidFill>
                <a:latin typeface="Tahoma"/>
              </a:rPr>
              <a:t>Ткань атласного переплетения, имеет гладкую, блестящую, шелковистую поверхность. Атласы отличаются разнообразием в зависимости от состава ткани, её плотности и т.п. Атлас-дюшес, например — тяжелая плотная ткань, ложащаяся крупными фалдами. Атлас-шармёз — тонкий бельевой атлас, мягкий, текучий и нежный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0" y="2349360"/>
            <a:ext cx="3456000" cy="33418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6360"/>
          </a:xfrm>
          <a:prstGeom prst="rect">
            <a:avLst/>
          </a:prstGeom>
          <a:solidFill>
            <a:srgbClr val="e6ebb3"/>
          </a:soli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Бархат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284360" y="1268280"/>
            <a:ext cx="4608360" cy="5400720"/>
          </a:xfrm>
          <a:prstGeom prst="rect">
            <a:avLst/>
          </a:prstGeom>
          <a:solidFill>
            <a:srgbClr val="e6ebb3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9933"/>
                </a:solidFill>
                <a:latin typeface="Tahoma"/>
              </a:rPr>
              <a:t>Шелковая или хлопчатобумажная ткань с мягким густым вертикальным ворсом (1,5–2 мм) на лицевой стороне. Применяется для пошива женского платья, отделки, декоративных целей. </a:t>
            </a:r>
            <a:br>
              <a:rPr sz="1600"/>
            </a:br>
            <a:r>
              <a:rPr b="1" i="1" lang="en-US" sz="1600" spc="-1" strike="noStrike">
                <a:solidFill>
                  <a:srgbClr val="ff9933"/>
                </a:solidFill>
                <a:latin typeface="Tahoma"/>
              </a:rPr>
              <a:t>В течение многих веков в Европе и в России ценились бархатные наряды. И в XX в. бархат оставался дорогим материалом для вечерних платьев. В начале века был популярен «лизанный» бархат с низким прессованным ворсом, торчащим в разные стороны. «Рытый» бархат на шелковой основе с ворсом разной высоты, образующим узоры, был моден в 1930-50-е гг. Панбархат похож на рытый, но с ворсом в одном направлении, очень мягкий. Панбархатом так же называют шелковый шифон с узорами из ворса. Лионский бархат (в русской традиции — велюр) с коротким, мелким, прямо торчащим ворсом на хлопковой, шелковой и др. основах и более жесткий, чем обычный бархат, использовался для платьев, пальто и шляп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3600360" cy="3495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a1f2f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Батист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solidFill>
            <a:srgbClr val="a1f2f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фр. batist. Тонкая, полупрозрачная льняна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хлопчатобумажная ткань полотняного    переплетения из тонкой гребенной однониточ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й пряжи одинаковой толщины в утке и основе.       Бывает также шелковой и шерстя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2843280" y="4076640"/>
            <a:ext cx="4392720" cy="26370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-252360" y="1197000"/>
            <a:ext cx="9648720" cy="28083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1f2fd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Букл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39280" y="2133720"/>
            <a:ext cx="4038840" cy="4525920"/>
          </a:xfrm>
          <a:prstGeom prst="rect">
            <a:avLst/>
          </a:prstGeom>
          <a:solidFill>
            <a:srgbClr val="a1f2fd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т фр. boucle — колечко, лок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1) гладкокрашенная ткань с мелкорельефной поверхностью. Вырабатывается сложными переплетениями из крученой пряжи или однослойными переплетениями из фасонной пряж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2) Крученая пряжа с периодически повторяющимися петельками и узелк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3) Трикотажные полотна из буклированной пряжи, с шероховатой поверхност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5580000" y="1989000"/>
            <a:ext cx="3203640" cy="424836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"/>
          <a:stretch/>
        </p:blipFill>
        <p:spPr>
          <a:xfrm rot="5400000">
            <a:off x="3649320" y="-3830400"/>
            <a:ext cx="1482840" cy="91440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0" y="1484280"/>
            <a:ext cx="5580000" cy="583236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"/>
          <a:stretch/>
        </p:blipFill>
        <p:spPr>
          <a:xfrm>
            <a:off x="8686800" y="3860280"/>
            <a:ext cx="133200" cy="78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17680"/>
          </a:xfrm>
          <a:prstGeom prst="rect">
            <a:avLst/>
          </a:prstGeom>
          <a:solidFill>
            <a:srgbClr val="e3bbe2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Вельве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solidFill>
            <a:srgbClr val="e3bbe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ff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ff00ff"/>
                </a:solidFill>
                <a:latin typeface="Arial"/>
              </a:rPr>
              <a:t>Вельвет или бумажный бархат, плис — плотная ворсовая ткань с уточным ворсом. Вельвет имеет на лицевой стороне ворсовые рубчики, идущие вдоль основы. Различают вельвет-корд, имеющий широкую ворсовую полоску, и вельвет-рубчик с узкой ворсовой полоской. Выпускают однотонный или набивной с различными рисунками в виде клеток, полос и т.д. Вельвет утвердился в качестве одной из основных и наиболее распространенных тканей стиля кэжуа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3132000" y="3749760"/>
            <a:ext cx="3167280" cy="31082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 rot="5400000">
            <a:off x="1143000" y="-1143000"/>
            <a:ext cx="6858000" cy="9144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5:01:43Z</dcterms:created>
  <dc:creator>алексей</dc:creator>
  <dc:description/>
  <dc:language>en-US</dc:language>
  <cp:lastModifiedBy>алексей</cp:lastModifiedBy>
  <dcterms:modified xsi:type="dcterms:W3CDTF">2009-03-03T12:52:41Z</dcterms:modified>
  <cp:revision>4</cp:revision>
  <dc:subject/>
  <dc:title>Бархат </dc:title>
</cp:coreProperties>
</file>