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AA8-A83E-427E-BDA6-FDF51A22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ABA-17D1-40CF-AECC-61AB9546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C93-FB77-4980-BEB2-E2E30A83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4AD-2DC3-49F3-A929-054313D1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D61-B2C0-4111-A2BB-5CC2B458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6232-D956-4AFF-BD19-78A11A7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A975-7F93-425F-A336-E9CAED2A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1B77-19F7-4805-93B2-C8A4039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9370-85F5-4B79-888C-962EBAE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65C-8D2E-463A-8890-F3F21D9E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B814-2675-4615-AF2C-4529871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7D1-16C1-4971-B836-EBDD6D9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2F1E-6A1B-4C42-B6DF-201883AB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41B0-268F-4DBF-8258-1E25F8E0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E885-D757-40D6-A210-B6DF5147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C1A-1D83-4128-932D-C3D69B19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18AE-9410-42D1-A0C3-3B6BD8C1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B21-0F2D-4BFB-BD08-E7DA90C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BF5-D4A7-4A7F-841C-E2E17D0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825-BF55-4983-811A-640BD31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86B-7203-46BB-8A67-EA84F97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1DE-0702-4E76-9830-407720D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167-5062-4503-9C9B-F587DA5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A9D-9529-4952-9B3F-0395DA9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059-69AC-4465-B600-D28AB9864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F24E-0F45-4802-A709-BE2AE6BFA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 на уроке мы научимся определять направление нитей основы и утка; познакомимся с профессиями ткача и контролера  качества тканей, узнаем, как производят тка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5" descr=""/>
          <p:cNvPicPr/>
          <p:nvPr/>
        </p:nvPicPr>
        <p:blipFill>
          <a:blip r:embed="rId1"/>
          <a:stretch/>
        </p:blipFill>
        <p:spPr>
          <a:xfrm>
            <a:off x="298440" y="96840"/>
            <a:ext cx="847404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716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32523"/>
                </a:solidFill>
                <a:uFillTx/>
                <a:latin typeface="Times New Roman"/>
              </a:rPr>
              <a:t>Швейное материаловедение</a:t>
            </a:r>
            <a:r>
              <a:rPr b="1" i="1" lang="ru-RU" sz="3200" spc="-1" strike="noStrike">
                <a:solidFill>
                  <a:srgbClr val="632523"/>
                </a:solidFill>
                <a:latin typeface="Times New Roman"/>
              </a:rPr>
              <a:t> изучает  состав, строение и свойства материалов используемых для изготовления швейных издел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449604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кань –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это материал, который получают на ткацких станках путем переплетения нитей между собой.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дольные нити в тканях называются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сновными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или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сновой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Поперечные нити в ткани называются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уточными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или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 утком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01_01"/>
          <p:cNvPicPr/>
          <p:nvPr/>
        </p:nvPicPr>
        <p:blipFill>
          <a:blip r:embed="rId1"/>
          <a:stretch/>
        </p:blipFill>
        <p:spPr>
          <a:xfrm>
            <a:off x="4876920" y="1371600"/>
            <a:ext cx="3968640" cy="3676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87" name="Text Box 4"/>
          <p:cNvSpPr/>
          <p:nvPr/>
        </p:nvSpPr>
        <p:spPr>
          <a:xfrm>
            <a:off x="5257800" y="5410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Макет ткацкого ст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br>
              <a:rPr sz="1800"/>
            </a:br>
            <a:r>
              <a:rPr b="1" lang="ru-RU" sz="2200" spc="-1" strike="noStrike" u="sng">
                <a:solidFill>
                  <a:srgbClr val="800000"/>
                </a:solidFill>
                <a:uFillTx/>
                <a:latin typeface="Times New Roman"/>
              </a:rPr>
              <a:t>Определение в ткани нитей основы и утка</a:t>
            </a:r>
            <a:br>
              <a:rPr sz="22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Оборудование: Образцы тканей с кромкой и без неё, луп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Ход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К ткани с кромкой определите направление ни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астягивая образец по нити основы и утка, определите, в каком направлении ткань растягивается боль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езко растягивая ткань (с хлопком), определите, в каком направлении звук будет звонким а в каком глух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ассматривая ткань в лупу, определите по толщине и гладкости нить основы и нить ут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 изученным признакам  определите направление нитей основы и утка в ткани без кромки.                                         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Заполните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4724280"/>
          <a:ext cx="8686800" cy="1906560"/>
        </p:xfrm>
        <a:graphic>
          <a:graphicData uri="http://schemas.openxmlformats.org/drawingml/2006/table">
            <a:tbl>
              <a:tblPr/>
              <a:tblGrid>
                <a:gridCol w="1473120"/>
                <a:gridCol w="1322640"/>
                <a:gridCol w="1887480"/>
                <a:gridCol w="1207800"/>
                <a:gridCol w="1347840"/>
                <a:gridCol w="14479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н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епени растя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ом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зву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иду н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щ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д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ь осно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ь у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36"/>
          <p:cNvSpPr/>
          <p:nvPr/>
        </p:nvSpPr>
        <p:spPr>
          <a:xfrm>
            <a:off x="1982880" y="5562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Ма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3262320" y="5524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Вдоль кр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5031000" y="55627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Звон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6402240" y="55627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Тон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7604280" y="5410080"/>
            <a:ext cx="10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Глад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1663920" y="61340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2971800" y="5975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Перпендик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кром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5107320" y="60958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6234840" y="61340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Тол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7545240" y="601992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Пушист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изви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nitki_05.mpg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theory_weaving_03_00.gif"/>
          <p:cNvPicPr/>
          <p:nvPr/>
        </p:nvPicPr>
        <p:blipFill>
          <a:blip r:embed="rId2"/>
          <a:stretch/>
        </p:blipFill>
        <p:spPr>
          <a:xfrm>
            <a:off x="1676520" y="533520"/>
            <a:ext cx="6018120" cy="4724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926280" y="5638680"/>
            <a:ext cx="787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ование – перематывание нитей с большого количества бо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новальный валик  (ткацкий на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03848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6" descr="nitki_05 001_000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65560" cy="3124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685800"/>
            <a:ext cx="426708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служивает ткацкий станок; производит пуск и остановку станка, ликвидирует обрыв нитей, снимает наработанную ткань, обметает, чистит и смазывает станок, предупреждает и выявляет дефекты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 должен  знать устройство ткацкого станка, свойства пряжи, строение ткани, требования к качеству безопасности труда и пожарной безопас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9644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онтролер качества тк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62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нтролер качества тканей работает на браковочно-мерильной машине, выявляет дефекты ткани, проверяет ширину ткани и длину ткани в куске, заполняет ярлык ткани (маркировку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нтролер должен знать виды дефектов тканей, устройство браковочно-мерильной машины, способ заправки ткни в машину, правила безопасности труда и пожарной безопасности на производст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ткач"/>
          <p:cNvPicPr/>
          <p:nvPr/>
        </p:nvPicPr>
        <p:blipFill>
          <a:blip r:embed="rId2"/>
          <a:stretch/>
        </p:blipFill>
        <p:spPr>
          <a:xfrm>
            <a:off x="5029200" y="1523880"/>
            <a:ext cx="3714840" cy="495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243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66"/>
                </a:solidFill>
                <a:uFillTx/>
                <a:latin typeface="Tempus Sans ITC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ы вами узнали много новых терминов.    Составьте словарь  нашего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Ткацкий цех"/>
          <p:cNvPicPr/>
          <p:nvPr/>
        </p:nvPicPr>
        <p:blipFill>
          <a:blip r:embed="rId2"/>
          <a:stretch/>
        </p:blipFill>
        <p:spPr>
          <a:xfrm>
            <a:off x="2133720" y="21337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2529000" y="609588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ткацкий ц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5:12:03Z</dcterms:created>
  <dc:creator>Мария</dc:creator>
  <dc:description/>
  <dc:language>en-US</dc:language>
  <cp:lastModifiedBy>алексей</cp:lastModifiedBy>
  <dcterms:modified xsi:type="dcterms:W3CDTF">2009-03-29T08:32:22Z</dcterms:modified>
  <cp:revision>47</cp:revision>
  <dc:subject/>
  <dc:title>Слайд 1</dc:title>
</cp:coreProperties>
</file>