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278-8739-41EC-823F-659C6CB8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EB6-DEA1-425C-9BF0-6C558117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10B-90CC-4852-9CB4-B912799F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3FE-DC1F-4F75-A3CB-44AFAF2D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334B-CE77-4C2B-8B93-C190EDBA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363E-33CE-4F82-9F8E-0AE81922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D0B1-7782-4F9E-B98B-695CA12E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94C5-03D8-459A-BDA8-30695D96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DDA5-9C5F-492B-949D-12A39F66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0F00-3D71-4C94-88B4-350984CC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3316-E30A-4A02-AD2F-8CBEA12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047-24B5-4E01-8567-3F6311A8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D67F-159E-40AA-BE3A-075E5FB6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3ADA-3367-4151-AC1C-16E2CD5D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3FBC-3EE6-4C50-9169-2F4640B8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2AB3-6EFE-4948-9A9F-58AC758F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C5F0-C285-49A9-BBBD-8E5B8063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476B-2FDB-4161-9EDC-57ABC9E0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DE35-97F9-4398-9680-8159210F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9D66-34EC-4EE2-8F7A-30F77339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2EF1-E0E8-4992-9C90-552543D7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5CE4-8B97-4EE7-9A46-D78DA7DF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63E-027B-439F-9AE0-6A7960A0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4F7F1-73FC-4A46-815E-E1606A37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0351-47FF-4F40-99F3-0FB94043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7D3E-B9E4-43E1-8025-224435D4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23B0-532B-46E2-B834-F89958FB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0FF6-344E-41CB-97E4-0289419D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D28FC-C2DE-434B-842F-40001A50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1E7B-8C78-4A06-8530-20B72DCB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CCC2C-57B6-4EB3-A4EB-81DBB32E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DD44D-E2CF-41B9-A2CE-63D08E56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26E8A-EB9A-4262-8258-BF857E0E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411-C929-444C-85B7-5B21DCA5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0152-69DF-406E-91DF-0D56D4E0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816BB-B51B-4EF9-82FC-0B7C8AF1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483C8-59FF-4F22-B0EE-4C692607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4C66-2437-48A9-81AC-F6876B2C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B1517-283A-4476-8275-984B36BF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5BC64-2D5C-4B1F-9F4D-D71AB706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20F8-3ADE-450F-99F7-6D0424F2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98F2-C1B7-471B-8186-406714C0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CD768-84E2-4D1A-9132-C92AC19F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2FEEE-6EDD-479E-9567-7108AC9C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B64-8632-4913-9E3F-AC400375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14A9F-148D-4ED7-B61D-CC3129F0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22450-C21F-4FF1-8843-DC213B90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91012-A7C2-483C-B57E-D88E08E6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D23FF-3148-4DC6-82CF-64BB8E0A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A08D6-538B-4D99-97C3-746C9256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ABADA-AFC7-41E8-ACF6-475550C3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C308-E8E9-4F36-B15C-FD3115E0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71528-4F39-4150-B57F-B0001C16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77DF9-899F-4DDD-A52D-EE5FFB5D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D449C-3CA6-4E5C-9551-63A04A1E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EC5-8C09-457C-A329-00763C64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7A412-97CE-418A-83DE-378A1595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63E-8E37-4CD4-A95D-5394199A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363-D625-4D70-9C45-58C3C0CB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80B-1EBC-4BB0-971A-6BB24F8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EEFE-C8EF-468D-A900-DA37AC1E6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2FB4-39E1-4207-9D00-1725531845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7192-DC83-4F73-A0EC-5FF3A0C78A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E4E0-ECB6-4F89-A903-A182C9645B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06D9-E66E-46F8-A340-557CEDBEAA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925040" cy="1143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тложные воротники</a:t>
            </a: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с застежкой до верху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27280" y="5589360"/>
            <a:ext cx="2700360" cy="7714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 ча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4968720" cy="3308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156360" y="2708280"/>
            <a:ext cx="2725560" cy="2736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3203640" y="4869000"/>
            <a:ext cx="28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технологи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56000" y="5589720"/>
            <a:ext cx="3609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ыхрикова А.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32000" y="1699920"/>
            <a:ext cx="6696000" cy="475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Инструкцион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по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ворот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Построить прямой угол с вершиной в точке О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Вверх от точки О откладываем величину подъема середины воротника. Обозначаем В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ОВ= 2 см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От точки В вверх откладываем высоту стойки , обозначаем В1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От точки В вверх откладываем ширину воротника по середине В В2 =6-12 см. Обозначаем В2 . 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 Из точки В радиусом ВА=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горл – 0,5= 22-0,5=21,5 см делаем засечку на горизонталь О. Обозначаем А.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Если воротник имеет небольшой подъем середины (до 3,0 см), то линию втачивания воротника делают выпукло-вогнутой с небольшой выпуклостью к концам воротника, для эт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Отрезок АВ делим на три части,. Обозначаем А1,в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Отрезок АА1 делим паполам. Обозначаем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Через точку а к прямой АВ восстанавливаем перпендикуляр вниз и на нем откладываем 0,2- 0,3 см. Обозначаем а1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Через точку в к прямой АВ восстанавливаем перпендикуляр вверх и на нем откладываем 0,4- 0,5 см. Обозначаем в1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Оформляем линию втачивания воротника в горловину плавной линией через точки В, в1, А1,а1, А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Линия перегиба стойки также представляет собой плавную кривую А В1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Через точку А к прямой ОА восстанавливаем перпендикуляр вверх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От точки А вверх откладываем отрезок АА3, характеризующий ширину воротника у его концов. В среднем этот отрезок равен АА3=ВВ2+1,0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Длина выступа у конца воротника равна отрезку А3А4 (величина зависит от модели), Восстанавливаем перпендикуляр к прямой АА3 из точки А3. Обозначаем А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Отрезок А4В2 делим паполам. Обозначаем А6.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- Через точку А6 к прямой А4В2 восстанавливаем перпендикуляр вверх и на нем откладываем 1,0- 1,5 см. Обозначаем А7.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- Линии отлета и концов воротника оформляем плавной кривой проходящей через точки В2,А7, А4.Линию концов воротника получают ,соединив точки А и А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При оформлении линии втачивания и отлета воротника следует следить за тем, что бы эти линии составляли прямой угол с линией середины воротника ВВ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тложной воротник не прилегающий к шее в изделиях с застежкой до верх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964720" cy="5373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32000" y="1699920"/>
            <a:ext cx="6696000" cy="475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Инструкцион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по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ворот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Построить прямой угол с вершиной в точке О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Вверх от точки О откладываем величину подъема середины воротника. Обозначаем В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ОВ=12 см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От точки В вверх откладываем высоту стойки , обозначаем В1.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От точки В вверх откладываем ширину воротника по середине В В2 =6-16 см. Обозначаем В2 . 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 Из точки В радиусом ВА=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горл –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= 22-1,5=20,5 см делаем засечку на горизонталь О. Обозначаем А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Где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= 0,5-1,5 см –поправочный коэффициент который зависит от степени кривизны линии втачивания воротника: меньшие поправочные коэффициенты используют при прямой линии втачивания воротника, большие -при изогнутой линии втач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-Отрезок АВ делим паполам. Обозначаем 1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Через точку 1 к прямой АВ восстанавливаем перпендикуляр вверх и на нем откладываем 1,0- 2,5 см. Обозначаем 2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Оформляем линию втачивания плавной линией через точки В, 2, А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Линия перегиба стойки также представляет собой плавную кривую А В1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Через точку А к прямой АВ восстанавливаем перпендикуляр вверх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От точки А вверх откладываем отрезок АА3, характеризующий ширину воротника у его концов. В среднем этот отрезок равен АА3=ВВ2+1,0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Длина выступа у конца воротника равна отрезку А3А4 (величина зависит от модели)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Восстанавливаем перпендикуляр к прямой АА3 из точки А3. Обозначаем А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Отрезок А4В2 делим паполам. Обозначаем А6.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- Через точку А6 к прямой А4В2 восстанавливаем перпендикуляр вверх и на нем откладываем 1,0- 1,5 см. Обозначаем А7.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- Линии отлета оформляем плавной кривой проходящей через точки В2,А7, А4.Линию концов воротника получают ,соединив точки А и А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При оформлении линии втачивания и отлета воротника следует следить за тем, что бы эти линии составляли прямой угол с линией середины воротника ВВ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4bd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Воротник с цельновыкроеной стойкой прилегающий к шее в изделиях с застежкой до верха - хит спортивной одежды мужских сороче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895640" cy="3741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4bd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Построение отложного воротника прилегающего к шее в изделиях с застежкой до верха с цельновыкроеной стойко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5373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32000" y="1699920"/>
            <a:ext cx="6696000" cy="475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Инструкцион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по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ворот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ля обеспечения плотного прилегания воротника к шее по линии втачивания можно сконструировать стойку. Стойка может быть цельновыкроеной с воротником (не отрезной ) и отрез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Построить прямой угол с вершиной в точке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Вверх от точки О откладываем величину подъема середины воротника. Обозначаем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.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В= 2 с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От точк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верх откладываем высоту стойки, равную 3,5см, обозначаем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1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От точки В вверх откладываем ширину воротника по середине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В2 =6-10 см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. Обозначаем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2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 Из точк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радиусом ВА=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горл –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= 22-0,5=21,5 см делаем засечку на горизонталь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.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бозначаем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Где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= 0,5-1,5 см –поправочный коэффициент который зависит от степени кривизны линии втачивания воротника: меньшие поправочные коэффициенты используют при прямой линии втачивания воротника, большие -при изогнутой линии втачивания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Отрезок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В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делим на три части,. Обозначаем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1,В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-Отрезок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А1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делим паполам. Обозначаем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Через точку а к прямой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В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восстанавливаем перпендикуляр вниз и на нем откладываем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0,2- 0,3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см. Обозначаем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1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Через точку в к прямой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В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восстанавливаем перпендикуляр вверх и на нем откладываем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0,4- 0,5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см. Обозначаем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1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Оформляем линию втачивания плавной линией через точки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, в1, А1,а1, А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Через точку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к прямой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А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восстанавливаем перпендикуляр вверх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От точки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вверх откладываем отрезок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А2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, равный высоте стойки.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А2=ВВ1=3,5 см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От точки А вверх откладываем отрезок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А3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, характеризующий ширину воротника у его концов. В среднем этот отрезок равен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А3=ВВ2+1,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Длина выступа у конца воротника равна отрезку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3А4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 (величина зависит от модел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- Восстанавливаем перпендикуляр к прямой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А3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 из точки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3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. Обозначаем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4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-Отрезок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4В2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 делим паполам. Обозначаем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6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- Через точку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6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 к прямой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4В2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восстанавливаем перпендикуляр вверх и на нем откладываем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1,0- 1,5 см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. Обозначаем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7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- Линии отлета и концов воротника оформляем плавной кривой проходящей через точки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2,А7, А4.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Линию концов воротника получают ,соединив точки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2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Оформляем линию перегиба стойки, соединяя точки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1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2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плавной линией параллельной линии втачивания воротника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От точки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вправо по горизонтали продолжаем линию втачивания воротника, На ней откладываем величину уступа воротника, которая ровна величине полузаноса. Обозначаем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'. AA' = 1,5- 2,0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см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Полузанос- припуск на застежку, его величина для блузок и сорочек равна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1,5-2,0 см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. Величину полузаноса откладываем вправо по горизонтали от точки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5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и проводим вертикальную линию, Это будет линия борта.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Оформляем уступ стойки воротника по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Нить основы проходит параллельно линии середины воро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4bdf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Отложной воротник прилегающий к шее в изделиях с застежкой до верха (без стойки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181080" y="1413000"/>
            <a:ext cx="9506160" cy="5157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6:09:28Z</dcterms:created>
  <dc:creator>алексей</dc:creator>
  <dc:description/>
  <dc:language>en-US</dc:language>
  <cp:lastModifiedBy>алексей</cp:lastModifiedBy>
  <dcterms:modified xsi:type="dcterms:W3CDTF">2009-03-03T12:23:12Z</dcterms:modified>
  <cp:revision>4</cp:revision>
  <dc:subject/>
  <dc:title>Слайд 1</dc:title>
</cp:coreProperties>
</file>