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759C-8CCF-48CE-92B7-E9873BA7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2411-D71F-4606-8DA7-925EBA57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BB0E-1004-44E8-93EE-E94DC79A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B46D-13BF-444F-AFC0-7FD5FC21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D353-A27A-48F2-8671-86BF212C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B68A-2D07-47E5-B78F-8C28C0EB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33AE-1CFA-4377-8992-EBD230D6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01AE-6A7B-435D-B1B4-97101034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FFD6-1E2B-4BFD-8C6B-6A2017B1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1194-41C8-4C56-A920-AAD7A100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45CF-1B1D-47EB-8ECE-85DCBD0C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532D-F871-4D69-AFBF-70FC60A3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89BA-F378-4424-8CBC-06621003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494E-8A3F-4388-B12E-E192B355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155F-F0FD-4970-8093-2EFD93AF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166E-793D-47A5-8C3F-023B0A26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3379-76B9-4B98-A9B8-D97CB1B1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0C284-E97E-4A55-86CD-2E5A4444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B7544-DB59-4294-BD1E-FAA7E123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DB8E2-E31A-4892-9410-558B9D11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591C6-B047-4936-8D3A-53F7F665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3FDA9-BB60-43F5-9EA1-D6A8532B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9EA5-1343-4E1A-9B87-06C8A358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CAB2B-BF59-4D35-A3C9-39CC29AD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EA78D-5D81-4DF5-8DB0-60546858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7624D-5B91-42B8-885C-761FD594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AC1F2-57C0-4072-A532-FD7DD26C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35F61-6167-4FCE-AB72-B74831A8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562FD-60EB-437E-ADFB-7B3A0CE6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58BC7-82C3-484D-9AA9-ED460591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FF4DD-8D86-4F47-BF8D-ED6B2F09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CE5EC-D8AD-4906-B77E-D1B4782C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52673-09D7-4AC9-92DA-BCBE33FD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DBF6-FE04-420E-AA4C-C380D2BC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7E9E5-67C8-49B8-A903-9A20BBEA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A63B9-C80A-4C00-8640-B24CB85C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85412-A298-43BA-BF41-0BA825A8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16B8C-F004-41F2-9502-3999A093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A7C5F-E77C-4EE1-A206-93E5CFB0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35E21-A996-4275-AA30-9607DFAD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042B5-A33D-4E91-953E-46E76275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0F950-29BA-47F4-B4BB-C4B07C9E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8CB15-48CA-4B87-9DDE-05BA4BF6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1C642-9AA8-4ADA-B6A0-64A24093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60BC-6C45-4CE6-A039-FC9E442F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F80E7-5287-423F-B31C-E89D0AC6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3A82F-E895-495E-AF5E-EC33FE34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36EB8-901E-4E49-8BFB-311210F2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BDD55-A598-4E3B-98AB-49EC3CC7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54711-554A-4550-B122-3CE3ECA4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D8B06-A53B-4CFB-B9C7-B0C7B584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0ABAE-B4EC-4233-9984-755F24A7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59FFE-7FA3-48B8-91DB-FBB12C00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2B5C8-90E6-4DFC-9CBF-8E609F94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16E4A-CBC9-4342-9BE8-4C8A254A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F9A8-F03D-44E7-89D8-43034879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35A88-D5AF-4098-A27F-98400E9C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9392-2870-46F0-AAAF-F41C669D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4415-380B-4FC1-8EF0-A64731D4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5E8C-32F9-45FC-9208-3EA6AF2F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49.xml"/><Relationship Id="rId32" Type="http://schemas.openxmlformats.org/officeDocument/2006/relationships/slideLayout" Target="../slideLayouts/slideLayout50.xml"/><Relationship Id="rId33" Type="http://schemas.openxmlformats.org/officeDocument/2006/relationships/slideLayout" Target="../slideLayouts/slideLayout51.xml"/><Relationship Id="rId34" Type="http://schemas.openxmlformats.org/officeDocument/2006/relationships/slideLayout" Target="../slideLayouts/slideLayout52.xml"/><Relationship Id="rId35" Type="http://schemas.openxmlformats.org/officeDocument/2006/relationships/slideLayout" Target="../slideLayouts/slideLayout53.xml"/><Relationship Id="rId36" Type="http://schemas.openxmlformats.org/officeDocument/2006/relationships/slideLayout" Target="../slideLayouts/slideLayout54.xml"/><Relationship Id="rId37" Type="http://schemas.openxmlformats.org/officeDocument/2006/relationships/slideLayout" Target="../slideLayouts/slideLayout55.xml"/><Relationship Id="rId38" Type="http://schemas.openxmlformats.org/officeDocument/2006/relationships/slideLayout" Target="../slideLayouts/slideLayout56.xml"/><Relationship Id="rId39" Type="http://schemas.openxmlformats.org/officeDocument/2006/relationships/slideLayout" Target="../slideLayouts/slideLayout57.xml"/><Relationship Id="rId40" Type="http://schemas.openxmlformats.org/officeDocument/2006/relationships/slideLayout" Target="../slideLayouts/slideLayout58.xml"/><Relationship Id="rId41" Type="http://schemas.openxmlformats.org/officeDocument/2006/relationships/slideLayout" Target="../slideLayouts/slideLayout59.xml"/><Relationship Id="rId42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9FA2-B3A1-4B18-B937-D0356E25C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6266-B045-41D2-8B87-747083E4003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5610-A5C2-49C4-BC2D-CEA196BCC1E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48A7-625C-4C69-9A44-0A0EE3FC818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3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3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4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7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5029-87FF-4227-B2DE-CCA051A2C8E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1"/>
    <p:sldLayoutId id="2147483702" r:id="rId32"/>
    <p:sldLayoutId id="2147483703" r:id="rId33"/>
    <p:sldLayoutId id="2147483704" r:id="rId34"/>
    <p:sldLayoutId id="2147483705" r:id="rId35"/>
    <p:sldLayoutId id="2147483706" r:id="rId36"/>
    <p:sldLayoutId id="2147483707" r:id="rId37"/>
    <p:sldLayoutId id="2147483708" r:id="rId38"/>
    <p:sldLayoutId id="2147483709" r:id="rId39"/>
    <p:sldLayoutId id="2147483710" r:id="rId40"/>
    <p:sldLayoutId id="2147483711" r:id="rId41"/>
    <p:sldLayoutId id="2147483712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Отложные воротники с застежкой до верха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Технологи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1часть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148360" y="5445000"/>
            <a:ext cx="3609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читель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ыхрикова А.В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422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Конструктивно воротник связан с изделием только линией втачивания, длина которой равна длине горловины переда и спинки, линия втачивания воротника может быть вогнутой, прямолинейной или выпуклой, Форма линии втачивания влияет на степень прилегания воротника к шее. При вогнутой линии втачивания прилегание воротника к шее незначи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4560840" cy="4724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ca2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Воротник прилегающий к шее в изделиях с застежкой до верха с отрезной стойко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0" y="1628640"/>
          <a:ext cx="9143640" cy="5228640"/>
        </p:xfrm>
        <a:graphic>
          <a:graphicData uri="http://schemas.openxmlformats.org/drawingml/2006/table">
            <a:tbl>
              <a:tblPr/>
              <a:tblGrid>
                <a:gridCol w="9143640"/>
              </a:tblGrid>
              <a:tr h="522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4537080" cy="41767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292720" y="2276640"/>
            <a:ext cx="3529080" cy="3960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68560"/>
          </a:xfrm>
          <a:prstGeom prst="rect">
            <a:avLst/>
          </a:prstGeom>
          <a:solidFill>
            <a:srgbClr val="fca2f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Построение отложного воротника прилегающего к шее в изделиях с застежкой до верха с отрезной стойкой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6407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90099"/>
                </a:solidFill>
                <a:latin typeface="Arial"/>
              </a:rPr>
              <a:t>Инструкция 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90099"/>
                </a:solidFill>
                <a:latin typeface="Arial"/>
              </a:rPr>
              <a:t>к построению.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-Построим прямой угол с вершиной в точке О.</a:t>
            </a:r>
            <a:br>
              <a:rPr sz="2800"/>
            </a:b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-Вверх от точки О откладываем величину подъема середины воротника .Обозначаем В.</a:t>
            </a:r>
            <a:br>
              <a:rPr sz="2800"/>
            </a:b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ОВ= 5,0-8,0 см.</a:t>
            </a:r>
            <a:br>
              <a:rPr sz="2800"/>
            </a:b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- Из точки В радиусом ВА= </a:t>
            </a: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L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горл – </a:t>
            </a: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 = 22-1,0=21,0 см делаем засечку на горизонталь О. </a:t>
            </a:r>
            <a:br>
              <a:rPr sz="2800"/>
            </a:b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Обозначаем А..</a:t>
            </a:r>
            <a:br>
              <a:rPr sz="2800"/>
            </a:b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Где </a:t>
            </a:r>
            <a:r>
              <a:rPr b="1" i="1" lang="ru-RU" sz="28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 = 0,5-1,5 см –поправочный коэффициент который зависит от степени кривизны линии втачивания воротника: меньшие поправочные коэффициенты используют при прямой линии втачивания воротника, большие -при изогнутой линии втачивания.</a:t>
            </a:r>
            <a:r>
              <a:rPr b="0" i="1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-Отрезок АВ делим пополам. Обозначаем 1. </a:t>
            </a:r>
            <a:br>
              <a:rPr sz="2800"/>
            </a:b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- Через точку 1 к прямой АВ восстанавливаем перпендикуляр вверх и вниз .На нем откладываем в обе стороны по 1,5 см. Обозначаем 2 и 3.</a:t>
            </a:r>
            <a:br>
              <a:rPr sz="2800"/>
            </a:b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-От точки В вверх откладываем ширину воротника по середине В В2 =3,5-8,0 см. Обозначаем В2 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- Через точку А к прямой АВ восстанавливаем перпендикуляр вверх.</a:t>
            </a:r>
            <a:br>
              <a:rPr sz="2800"/>
            </a:b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- От точки А вверх откладываем отрезок АА3, характеризующий ширину воротника у его концов. В среднем этот отрезок равен АА3=ВВ2+1,0 см. </a:t>
            </a:r>
            <a:br>
              <a:rPr sz="2800"/>
            </a:b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Длина выступа у конца воротника равна отрезку А3А4</a:t>
            </a:r>
            <a:br>
              <a:rPr sz="2800"/>
            </a:b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- Восстанавливаем перпендикуляр к прямой АА3 из точки А3 (по модели). Обозначаем А4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6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6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6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6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990099"/>
                </a:solidFill>
                <a:latin typeface="Arial"/>
              </a:rPr>
              <a:t>Отрезок А4В2 делим пополам. Обозначаем А6.</a:t>
            </a:r>
            <a:br>
              <a:rPr sz="2600"/>
            </a:br>
            <a:r>
              <a:rPr b="0" lang="en-US" sz="2600" spc="-1" strike="noStrike">
                <a:solidFill>
                  <a:srgbClr val="990099"/>
                </a:solidFill>
                <a:latin typeface="Arial"/>
              </a:rPr>
              <a:t>- Через точку А6 к прямой А4В2 восстанавливаем перпендикуляр вверх и на нем откладываем 1,0- 1,5 см. Обозначаем А7.</a:t>
            </a:r>
            <a:br>
              <a:rPr sz="2600"/>
            </a:br>
            <a:r>
              <a:rPr b="0" lang="en-US" sz="2600" spc="-1" strike="noStrike">
                <a:solidFill>
                  <a:srgbClr val="990099"/>
                </a:solidFill>
                <a:latin typeface="Arial"/>
              </a:rPr>
              <a:t>- Линии отлета и концов воротника оформляем плавной кривой проходящей через точки В2,А7, А4.Линию концов воротника получают ,соединив точки А и А4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990099"/>
                </a:solidFill>
                <a:latin typeface="Arial"/>
              </a:rPr>
              <a:t>- для построения отрезной стойки в точку В восстанавливаем перпендикуляр к прямой ВА и на нем откладываем 2,5- 4,0см. Обозначаем В1.</a:t>
            </a:r>
            <a:br>
              <a:rPr sz="2600"/>
            </a:br>
            <a:r>
              <a:rPr b="0" lang="en-US" sz="2600" spc="-1" strike="noStrike">
                <a:solidFill>
                  <a:srgbClr val="990099"/>
                </a:solidFill>
                <a:latin typeface="Arial"/>
              </a:rPr>
              <a:t>- от точки А вниз по вертикали откладываем высоту стойки 2,5- 4,0 см обозначаем А1</a:t>
            </a:r>
            <a:br>
              <a:rPr sz="2600"/>
            </a:br>
            <a:r>
              <a:rPr b="0" lang="en-US" sz="2600" spc="-1" strike="noStrike">
                <a:solidFill>
                  <a:srgbClr val="990099"/>
                </a:solidFill>
                <a:latin typeface="Arial"/>
              </a:rPr>
              <a:t>- Линию притачивания стойки к воротнику оформляем плавной линией через точки В,2, А и В,3 ,А</a:t>
            </a:r>
            <a:br>
              <a:rPr sz="2600"/>
            </a:br>
            <a:r>
              <a:rPr b="0" lang="en-US" sz="2600" spc="-1" strike="noStrike">
                <a:solidFill>
                  <a:srgbClr val="990099"/>
                </a:solidFill>
                <a:latin typeface="Arial"/>
              </a:rPr>
              <a:t>- Линию втачивания стойки воротника в горловину оформляем плавной линией через точки В1, А1. Линия втачивания должна быть параллельна линии В,3, А</a:t>
            </a:r>
            <a:br>
              <a:rPr sz="2600"/>
            </a:b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6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6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6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6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6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6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- Линию втачивания стоики продолжаем вправо и от точки А1 откладываем величину уступа стойки воротника, которая ровна величине полузаноса. Обозначаем A'. AA' = 1,5- 2,0 с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Полузанос- припуск на застежку, его величина для блузок и сорочек равна 1,5-2,0 см. Величину полузаноса откладываем вправо по горизонтали от точки А5 и проводим вертикальную линию, это будет линия борта.</a:t>
            </a:r>
            <a:br>
              <a:rPr sz="2800"/>
            </a:b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Нить основы проходит параллельно линии середины воротник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 u="sng">
                <a:solidFill>
                  <a:srgbClr val="990099"/>
                </a:solidFill>
                <a:uFillTx/>
                <a:latin typeface="Arial"/>
              </a:rPr>
              <a:t>Уступ стойки воротника оформляем по модели 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6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6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6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6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6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6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6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6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6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6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6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6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8:47:37Z</dcterms:created>
  <dc:creator>алексей</dc:creator>
  <dc:description/>
  <dc:language>en-US</dc:language>
  <cp:lastModifiedBy>алексей</cp:lastModifiedBy>
  <dcterms:modified xsi:type="dcterms:W3CDTF">2009-03-03T12:24:46Z</dcterms:modified>
  <cp:revision>5</cp:revision>
  <dc:subject/>
  <dc:title>Отложные воротники с застежкой до верха.</dc:title>
</cp:coreProperties>
</file>