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5.gif" ContentType="image/gif"/>
  <Override PartName="/ppt/media/image20.gif" ContentType="image/gif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6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chimes.wav" ContentType="audio/x-wav"/>
  <Override PartName="/ppt/media/image16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338-675A-416D-949F-3C16407E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3F5-AC68-4240-AB76-1FC508C7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D05-420C-48A6-BDFB-203BFAFA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40B-1155-4597-AE9F-B8210B6A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781-73F1-44E4-9F7B-30D79A83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1DE-3C65-4DA5-83CE-0C2D95A1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7E0-DD10-4104-9257-9DCF7646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34D-6821-4AF2-827E-381BCA12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A4F-F01E-42BD-B894-1BB37C33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BAC-DA38-42B0-B0D5-57374374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DFC-42D2-429C-93EB-3FDF53AC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9D7-766C-450C-BAA5-E4A31EA7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55D4-180F-4969-9E31-78BF13CA9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19.png"/><Relationship Id="rId3" Type="http://schemas.openxmlformats.org/officeDocument/2006/relationships/slide" Target="slide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8200" y="2852640"/>
            <a:ext cx="3025800" cy="400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532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1" i="1" lang="en-US" sz="7200" spc="-1" strike="noStrike">
                <a:solidFill>
                  <a:srgbClr val="cc3399"/>
                </a:solidFill>
                <a:latin typeface="Monotype Corsiva"/>
              </a:rPr>
              <a:t>ТЕХНОЛОГИЯ</a:t>
            </a:r>
            <a:br>
              <a:rPr sz="7200"/>
            </a:br>
            <a:r>
              <a:rPr b="1" i="1" lang="en-US" sz="2800" spc="-1" strike="noStrike">
                <a:solidFill>
                  <a:srgbClr val="cc3399"/>
                </a:solidFill>
                <a:latin typeface="Times New Roman"/>
              </a:rPr>
              <a:t>Раздел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: Технология обработки ткани. 7кл</a:t>
            </a: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.</a:t>
            </a:r>
            <a:br>
              <a:rPr sz="4000"/>
            </a:br>
            <a:r>
              <a:rPr b="0" i="1" lang="en-US" sz="72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2920" y="4292640"/>
            <a:ext cx="63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0" y="299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276640"/>
            <a:ext cx="8218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7c80"/>
                </a:solidFill>
                <a:latin typeface="Monotype Corsiva"/>
              </a:rPr>
              <a:t>Моделирование   на основе      ночной сороч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cmd type="call" cmd="">
                                      <p:cBhvr>
                                        <p:cTn id="6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" dur="7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900"/>
                            </p:stCondLst>
                            <p:childTnLst>
                              <p:par>
                                <p:cTn id="1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4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3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84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7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809960" cy="551664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921200" y="1052640"/>
            <a:ext cx="4222800" cy="5805360"/>
            <a:chOff x="4921200" y="1052640"/>
            <a:chExt cx="4222800" cy="580536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4921200" y="1052640"/>
              <a:ext cx="4222800" cy="58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 txBox="1"/>
            <p:nvPr/>
          </p:nvSpPr>
          <p:spPr>
            <a:xfrm>
              <a:off x="6588000" y="5013360"/>
              <a:ext cx="2232000" cy="15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66ff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Острый вырез</a:t>
              </a:r>
              <a:endParaRPr b="0" lang="en-US" sz="2400" spc="1" strike="noStrike">
                <a:ln w="0">
                  <a:noFill/>
                </a:ln>
                <a:solidFill>
                  <a:srgbClr val="ff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92" name=""/>
          <p:cNvSpPr txBox="1"/>
          <p:nvPr/>
        </p:nvSpPr>
        <p:spPr>
          <a:xfrm>
            <a:off x="1763640" y="0"/>
            <a:ext cx="5688000" cy="18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делирование горловины</a:t>
            </a:r>
            <a:endParaRPr b="0" lang="en-US" sz="2800" spc="1" strike="noStrike">
              <a:ln w="0">
                <a:noFill/>
              </a:ln>
              <a:solidFill>
                <a:srgbClr val="cc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24720" y="6597720"/>
            <a:ext cx="719280" cy="260280"/>
          </a:xfrm>
          <a:custGeom>
            <a:avLst/>
            <a:gdLst>
              <a:gd name="textAreaLeft" fmla="*/ 16560 w 719280"/>
              <a:gd name="textAreaRight" fmla="*/ 702720 w 719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9639" h="21600">
                <a:moveTo>
                  <a:pt x="0" y="0"/>
                </a:moveTo>
                <a:lnTo>
                  <a:pt x="59639" y="0"/>
                </a:lnTo>
                <a:lnTo>
                  <a:pt x="59639" y="21600"/>
                </a:lnTo>
                <a:lnTo>
                  <a:pt x="0" y="21600"/>
                </a:lnTo>
                <a:close/>
              </a:path>
              <a:path fill="lightenLess" w="59639" h="21600">
                <a:moveTo>
                  <a:pt x="0" y="0"/>
                </a:moveTo>
                <a:lnTo>
                  <a:pt x="59639" y="0"/>
                </a:lnTo>
                <a:lnTo>
                  <a:pt x="58239" y="1400"/>
                </a:lnTo>
                <a:lnTo>
                  <a:pt x="1400" y="1400"/>
                </a:lnTo>
                <a:close/>
              </a:path>
              <a:path fill="darken" w="59639" h="21600">
                <a:moveTo>
                  <a:pt x="59639" y="0"/>
                </a:moveTo>
                <a:lnTo>
                  <a:pt x="59639" y="21600"/>
                </a:lnTo>
                <a:lnTo>
                  <a:pt x="58239" y="20200"/>
                </a:lnTo>
                <a:lnTo>
                  <a:pt x="58239" y="1400"/>
                </a:lnTo>
                <a:close/>
              </a:path>
              <a:path fill="darkenLess" w="59639" h="21600">
                <a:moveTo>
                  <a:pt x="59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239" y="20200"/>
                </a:lnTo>
                <a:close/>
              </a:path>
              <a:path fill="lighten" w="59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639" h="21600">
                <a:moveTo>
                  <a:pt x="22813" y="10800"/>
                </a:moveTo>
                <a:lnTo>
                  <a:pt x="36826" y="3794"/>
                </a:lnTo>
                <a:lnTo>
                  <a:pt x="36826" y="17806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14400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6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504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делирование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223640" cy="1224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635280" y="0"/>
            <a:ext cx="48974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верь себя.</a:t>
            </a:r>
            <a:endParaRPr b="0" lang="en-US" sz="1800" spc="1" strike="noStrike">
              <a:ln w="0">
                <a:noFill/>
              </a:ln>
              <a:solidFill>
                <a:srgbClr val="cc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781360"/>
            <a:ext cx="7129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построение чертежа деталей оде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716280"/>
            <a:ext cx="766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изменение формы деталей оде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365720"/>
            <a:ext cx="7417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изменение формы деталей одежды и художественное оформ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198612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280360" y="6426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914400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5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15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55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725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775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275"/>
                            </p:stCondLst>
                            <p:childTnLst>
                              <p:par>
                                <p:cTn id="166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1775"/>
                            </p:stCondLst>
                            <p:childTnLst>
                              <p:par>
                                <p:cTn id="171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775"/>
                            </p:stCondLst>
                            <p:childTnLst>
                              <p:par>
                                <p:cTn id="177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ажите мерки необходимые для расчё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роения горлов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лина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ирина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ирина рук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451640" y="5300640"/>
            <a:ext cx="1332000" cy="1065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195640" y="260280"/>
            <a:ext cx="597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верь себя.</a:t>
            </a:r>
            <a:endParaRPr b="0" lang="en-US" sz="1800" spc="1" strike="noStrike">
              <a:ln w="936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36000" y="270828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328464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39337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6000" y="458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1150920" cy="115128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8280360" y="6426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834920" y="1268280"/>
            <a:ext cx="66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ля круглого лица желательно выбрать форму горлов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68360" y="0"/>
            <a:ext cx="5616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верь себя.</a:t>
            </a:r>
            <a:endParaRPr b="0" lang="en-US" sz="1800" spc="1" strike="noStrike">
              <a:ln w="936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3284640"/>
            <a:ext cx="2735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Кар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581360"/>
            <a:ext cx="295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Круг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2205000"/>
            <a:ext cx="5545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Ост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3025800" cy="241776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101080" y="6381720"/>
            <a:ext cx="1042920" cy="476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7279" h="21600">
                <a:moveTo>
                  <a:pt x="0" y="0"/>
                </a:moveTo>
                <a:lnTo>
                  <a:pt x="47279" y="0"/>
                </a:lnTo>
                <a:lnTo>
                  <a:pt x="47279" y="21600"/>
                </a:lnTo>
                <a:lnTo>
                  <a:pt x="0" y="21600"/>
                </a:lnTo>
                <a:close/>
              </a:path>
              <a:path fill="lightenLess" w="47279" h="21600">
                <a:moveTo>
                  <a:pt x="0" y="0"/>
                </a:moveTo>
                <a:lnTo>
                  <a:pt x="47279" y="0"/>
                </a:lnTo>
                <a:lnTo>
                  <a:pt x="45879" y="1400"/>
                </a:lnTo>
                <a:lnTo>
                  <a:pt x="1400" y="1400"/>
                </a:lnTo>
                <a:close/>
              </a:path>
              <a:path fill="darken" w="47279" h="21600">
                <a:moveTo>
                  <a:pt x="47279" y="0"/>
                </a:moveTo>
                <a:lnTo>
                  <a:pt x="47279" y="21600"/>
                </a:lnTo>
                <a:lnTo>
                  <a:pt x="45879" y="20200"/>
                </a:lnTo>
                <a:lnTo>
                  <a:pt x="45879" y="1400"/>
                </a:lnTo>
                <a:close/>
              </a:path>
              <a:path fill="darkenLess" w="47279" h="21600">
                <a:moveTo>
                  <a:pt x="47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79" y="20200"/>
                </a:lnTo>
                <a:close/>
              </a:path>
              <a:path fill="lighten" w="47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279" h="21600">
                <a:moveTo>
                  <a:pt x="16633" y="10800"/>
                </a:moveTo>
                <a:lnTo>
                  <a:pt x="30646" y="3794"/>
                </a:lnTo>
                <a:lnTo>
                  <a:pt x="30646" y="17806"/>
                </a:lnTo>
                <a:close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14400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75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600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Monotype Corsiva"/>
              </a:rPr>
              <a:t>Использованная литература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: учебник для 7 класса. Под ред. В.Д. Симоненко и др. М.:2003.-240 с.,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ик Г., Чижик М. Самоучитель по кройке и шитью. - Ростов н \ Дону: Прогресс,2004.- 512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101080" y="6691320"/>
            <a:ext cx="1042920" cy="333360"/>
          </a:xfrm>
          <a:custGeom>
            <a:avLst/>
            <a:gdLst>
              <a:gd name="textAreaLeft" fmla="*/ 21600 w 1042920"/>
              <a:gd name="textAreaRight" fmla="*/ 1021320 w 1042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7526" h="21600">
                <a:moveTo>
                  <a:pt x="0" y="0"/>
                </a:moveTo>
                <a:lnTo>
                  <a:pt x="67526" y="0"/>
                </a:lnTo>
                <a:lnTo>
                  <a:pt x="67526" y="21600"/>
                </a:lnTo>
                <a:lnTo>
                  <a:pt x="0" y="21600"/>
                </a:lnTo>
                <a:close/>
              </a:path>
              <a:path fill="lightenLess" w="67526" h="21600">
                <a:moveTo>
                  <a:pt x="0" y="0"/>
                </a:moveTo>
                <a:lnTo>
                  <a:pt x="67526" y="0"/>
                </a:lnTo>
                <a:lnTo>
                  <a:pt x="66126" y="1400"/>
                </a:lnTo>
                <a:lnTo>
                  <a:pt x="1400" y="1400"/>
                </a:lnTo>
                <a:close/>
              </a:path>
              <a:path fill="darken" w="67526" h="21600">
                <a:moveTo>
                  <a:pt x="67526" y="0"/>
                </a:moveTo>
                <a:lnTo>
                  <a:pt x="67526" y="21600"/>
                </a:lnTo>
                <a:lnTo>
                  <a:pt x="66126" y="20200"/>
                </a:lnTo>
                <a:lnTo>
                  <a:pt x="66126" y="1400"/>
                </a:lnTo>
                <a:close/>
              </a:path>
              <a:path fill="darkenLess" w="67526" h="21600">
                <a:moveTo>
                  <a:pt x="67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126" y="20200"/>
                </a:lnTo>
                <a:close/>
              </a:path>
              <a:path fill="lighten" w="67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526" h="21600">
                <a:moveTo>
                  <a:pt x="26757" y="10800"/>
                </a:moveTo>
                <a:lnTo>
                  <a:pt x="40770" y="3794"/>
                </a:lnTo>
                <a:lnTo>
                  <a:pt x="40770" y="17806"/>
                </a:lnTo>
                <a:close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5950080"/>
            <a:ext cx="7128000" cy="215640"/>
          </a:xfrm>
          <a:custGeom>
            <a:avLst/>
            <a:gdLst>
              <a:gd name="textAreaLeft" fmla="*/ 1782000 w 7128000"/>
              <a:gd name="textAreaRight" fmla="*/ 5346000 w 7128000"/>
              <a:gd name="textAreaTop" fmla="*/ 2700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3399"/>
                </a:solidFill>
                <a:latin typeface="Monotype Corsiva"/>
              </a:rPr>
              <a:t>Содерж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. Актуа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2. Историческая 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3. Парад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4 .Моделирование горлов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5. 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6.  Использованн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433680" cy="4653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448000" y="3068280"/>
            <a:ext cx="669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ы построили чертеж ночной сорочки. Используя его, мы можем получить большое количество моделей не только ночных сорочек, но халатов и пижам.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59280" y="0"/>
            <a:ext cx="5113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иты домашнего уюта.</a:t>
            </a:r>
            <a:endParaRPr b="0" lang="en-US" sz="1800" spc="1" strike="noStrike">
              <a:ln w="0">
                <a:noFill/>
              </a:ln>
              <a:solidFill>
                <a:srgbClr val="cc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2685960" cy="3357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20480" y="134136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алат – верхняя одежда у некоторых азиатских народов, носимая без застёжек, с запахивающимися по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годня – это обычно домашняя или производственная        одежда,  запахивающаяся или застёгивающаяся на пуговицы или тесьму – «молнию» одежда.                 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03280" y="0"/>
            <a:ext cx="5618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торическая справка</a:t>
            </a:r>
            <a:endParaRPr b="0" lang="en-US" sz="1800" spc="1" strike="noStrike">
              <a:ln w="0">
                <a:noFill/>
              </a:ln>
              <a:solidFill>
                <a:srgbClr val="cc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956720" y="0"/>
            <a:ext cx="969840" cy="126828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8353440" y="6497640"/>
            <a:ext cx="790560" cy="360360"/>
          </a:xfrm>
          <a:custGeom>
            <a:avLst/>
            <a:gdLst>
              <a:gd name="textAreaLeft" fmla="*/ 23040 w 790560"/>
              <a:gd name="textAreaRight" fmla="*/ 767520 w 790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360" h="21600">
                <a:moveTo>
                  <a:pt x="0" y="0"/>
                </a:moveTo>
                <a:lnTo>
                  <a:pt x="47360" y="0"/>
                </a:lnTo>
                <a:lnTo>
                  <a:pt x="47360" y="21600"/>
                </a:lnTo>
                <a:lnTo>
                  <a:pt x="0" y="21600"/>
                </a:lnTo>
                <a:close/>
              </a:path>
              <a:path fill="lightenLess" w="47360" h="21600">
                <a:moveTo>
                  <a:pt x="0" y="0"/>
                </a:moveTo>
                <a:lnTo>
                  <a:pt x="47360" y="0"/>
                </a:lnTo>
                <a:lnTo>
                  <a:pt x="45960" y="1400"/>
                </a:lnTo>
                <a:lnTo>
                  <a:pt x="1400" y="1400"/>
                </a:lnTo>
                <a:close/>
              </a:path>
              <a:path fill="darken" w="47360" h="21600">
                <a:moveTo>
                  <a:pt x="47360" y="0"/>
                </a:moveTo>
                <a:lnTo>
                  <a:pt x="47360" y="21600"/>
                </a:lnTo>
                <a:lnTo>
                  <a:pt x="45960" y="20200"/>
                </a:lnTo>
                <a:lnTo>
                  <a:pt x="45960" y="1400"/>
                </a:lnTo>
                <a:close/>
              </a:path>
              <a:path fill="darkenLess" w="47360" h="21600">
                <a:moveTo>
                  <a:pt x="4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60" y="20200"/>
                </a:lnTo>
                <a:close/>
              </a:path>
              <a:path fill="lighten" w="4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60" h="21600">
                <a:moveTo>
                  <a:pt x="16674" y="10800"/>
                </a:moveTo>
                <a:lnTo>
                  <a:pt x="30687" y="3794"/>
                </a:lnTo>
                <a:lnTo>
                  <a:pt x="30687" y="17806"/>
                </a:lnTo>
                <a:close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2924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5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1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60498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жама – стала известна в Европе в 19 веке благодаря путешественникам, но только с начала 20 века пижама начала входить в моду и у мужчин, и у женщин. Она может согреть нас холодной, зимней ночью, и освежить в теплую ночь. Все зависит от модели и выбранной для неё тка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835280" y="0"/>
            <a:ext cx="54720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торическая справка.</a:t>
            </a:r>
            <a:endParaRPr b="0" lang="en-US" sz="1800" spc="1" strike="noStrike">
              <a:ln w="0">
                <a:noFill/>
              </a:ln>
              <a:solidFill>
                <a:srgbClr val="cc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046160" cy="1368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80360" y="6426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86400" y="3284640"/>
            <a:ext cx="2757600" cy="2919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14400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3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848720" y="234936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308720" y="1125360"/>
            <a:ext cx="901800" cy="1257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172360" y="0"/>
            <a:ext cx="971640" cy="1490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0" y="1147680"/>
            <a:ext cx="9144000" cy="5710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0"/>
            <a:ext cx="504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арад моделей.</a:t>
            </a:r>
            <a:endParaRPr b="0" lang="en-US" sz="1800" spc="1" strike="noStrike">
              <a:ln w="0">
                <a:noFill/>
              </a:ln>
              <a:solidFill>
                <a:srgbClr val="cc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>
            <a:hlinkClick r:id="rId5" action="ppaction://hlinksldjump"/>
          </p:cNvPr>
          <p:cNvSpPr/>
          <p:nvPr/>
        </p:nvSpPr>
        <p:spPr>
          <a:xfrm>
            <a:off x="8244000" y="6524640"/>
            <a:ext cx="900000" cy="333360"/>
          </a:xfrm>
          <a:custGeom>
            <a:avLst/>
            <a:gdLst>
              <a:gd name="textAreaLeft" fmla="*/ 21600 w 900000"/>
              <a:gd name="textAreaRight" fmla="*/ 878400 w 900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8276" h="21600">
                <a:moveTo>
                  <a:pt x="0" y="0"/>
                </a:moveTo>
                <a:lnTo>
                  <a:pt x="58276" y="0"/>
                </a:lnTo>
                <a:lnTo>
                  <a:pt x="58276" y="21600"/>
                </a:lnTo>
                <a:lnTo>
                  <a:pt x="0" y="21600"/>
                </a:lnTo>
                <a:close/>
              </a:path>
              <a:path fill="lightenLess" w="58276" h="21600">
                <a:moveTo>
                  <a:pt x="0" y="0"/>
                </a:moveTo>
                <a:lnTo>
                  <a:pt x="58276" y="0"/>
                </a:lnTo>
                <a:lnTo>
                  <a:pt x="56876" y="1400"/>
                </a:lnTo>
                <a:lnTo>
                  <a:pt x="1400" y="1400"/>
                </a:lnTo>
                <a:close/>
              </a:path>
              <a:path fill="darken" w="58276" h="21600">
                <a:moveTo>
                  <a:pt x="58276" y="0"/>
                </a:moveTo>
                <a:lnTo>
                  <a:pt x="58276" y="21600"/>
                </a:lnTo>
                <a:lnTo>
                  <a:pt x="56876" y="20200"/>
                </a:lnTo>
                <a:lnTo>
                  <a:pt x="56876" y="1400"/>
                </a:lnTo>
                <a:close/>
              </a:path>
              <a:path fill="darkenLess" w="58276" h="21600">
                <a:moveTo>
                  <a:pt x="58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76" y="20200"/>
                </a:lnTo>
                <a:close/>
              </a:path>
              <a:path fill="lighten" w="58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276" h="21600">
                <a:moveTo>
                  <a:pt x="22131" y="10800"/>
                </a:moveTo>
                <a:lnTo>
                  <a:pt x="36144" y="3794"/>
                </a:lnTo>
                <a:lnTo>
                  <a:pt x="36144" y="17806"/>
                </a:lnTo>
                <a:close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914400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7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0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8748720" cy="6319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716360" y="4653000"/>
            <a:ext cx="4427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арад моделей.</a:t>
            </a:r>
            <a:endParaRPr b="0" lang="en-US" sz="1800" spc="1" strike="noStrike">
              <a:ln w="0">
                <a:noFill/>
              </a:ln>
              <a:solidFill>
                <a:srgbClr val="cc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23280" y="6426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0" y="465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3" name="chimes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5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Чертеж ночной сор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1517760"/>
            <a:ext cx="7812000" cy="5289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831080" y="0"/>
            <a:ext cx="1312920" cy="3094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812000" y="6165720"/>
            <a:ext cx="13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8101080" y="6453360"/>
            <a:ext cx="1042920" cy="404640"/>
          </a:xfrm>
          <a:custGeom>
            <a:avLst/>
            <a:gdLst>
              <a:gd name="textAreaLeft" fmla="*/ 25920 w 1042920"/>
              <a:gd name="textAreaRight" fmla="*/ 1017000 w 1042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5642" h="21600">
                <a:moveTo>
                  <a:pt x="0" y="0"/>
                </a:moveTo>
                <a:lnTo>
                  <a:pt x="55642" y="0"/>
                </a:lnTo>
                <a:lnTo>
                  <a:pt x="55642" y="21600"/>
                </a:lnTo>
                <a:lnTo>
                  <a:pt x="0" y="21600"/>
                </a:lnTo>
                <a:close/>
              </a:path>
              <a:path fill="lightenLess" w="55642" h="21600">
                <a:moveTo>
                  <a:pt x="0" y="0"/>
                </a:moveTo>
                <a:lnTo>
                  <a:pt x="55642" y="0"/>
                </a:lnTo>
                <a:lnTo>
                  <a:pt x="54242" y="1400"/>
                </a:lnTo>
                <a:lnTo>
                  <a:pt x="1400" y="1400"/>
                </a:lnTo>
                <a:close/>
              </a:path>
              <a:path fill="darken" w="55642" h="21600">
                <a:moveTo>
                  <a:pt x="55642" y="0"/>
                </a:moveTo>
                <a:lnTo>
                  <a:pt x="55642" y="21600"/>
                </a:lnTo>
                <a:lnTo>
                  <a:pt x="54242" y="20200"/>
                </a:lnTo>
                <a:lnTo>
                  <a:pt x="54242" y="1400"/>
                </a:lnTo>
                <a:close/>
              </a:path>
              <a:path fill="darkenLess" w="55642" h="21600">
                <a:moveTo>
                  <a:pt x="55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42" y="20200"/>
                </a:lnTo>
                <a:close/>
              </a:path>
              <a:path fill="lighten" w="55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642" h="21600">
                <a:moveTo>
                  <a:pt x="20814" y="10800"/>
                </a:moveTo>
                <a:lnTo>
                  <a:pt x="34827" y="3794"/>
                </a:lnTo>
                <a:lnTo>
                  <a:pt x="34827" y="17806"/>
                </a:ln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0" y="3500280"/>
            <a:ext cx="1332000" cy="3357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914400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6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3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19280" y="0"/>
            <a:ext cx="54720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делирование горловины</a:t>
            </a:r>
            <a:endParaRPr b="0" lang="en-US" sz="2800" spc="1" strike="noStrike">
              <a:ln w="0">
                <a:noFill/>
              </a:ln>
              <a:solidFill>
                <a:srgbClr val="cc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572000" y="1484280"/>
            <a:ext cx="4571640" cy="5373360"/>
            <a:chOff x="4572000" y="1484280"/>
            <a:chExt cx="4571640" cy="5373360"/>
          </a:xfrm>
        </p:grpSpPr>
        <p:pic>
          <p:nvPicPr>
            <p:cNvPr id="83" name="" descr="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>
              <a:off x="4572000" y="1484280"/>
              <a:ext cx="4571640" cy="53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 txBox="1"/>
            <p:nvPr/>
          </p:nvSpPr>
          <p:spPr>
            <a:xfrm>
              <a:off x="7343280" y="5288400"/>
              <a:ext cx="1424880" cy="132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ff33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Карэ</a:t>
              </a:r>
              <a:endParaRPr b="0" lang="en-US" sz="2400" spc="1" strike="noStrike">
                <a:ln w="0">
                  <a:noFill/>
                </a:ln>
                <a:solidFill>
                  <a:srgbClr val="66ff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4427640" cy="53006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8317080" y="6597720"/>
            <a:ext cx="826920" cy="260280"/>
          </a:xfrm>
          <a:custGeom>
            <a:avLst/>
            <a:gdLst>
              <a:gd name="textAreaLeft" fmla="*/ 16560 w 826920"/>
              <a:gd name="textAreaRight" fmla="*/ 810360 w 8269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8559" h="21600">
                <a:moveTo>
                  <a:pt x="0" y="0"/>
                </a:moveTo>
                <a:lnTo>
                  <a:pt x="68559" y="0"/>
                </a:lnTo>
                <a:lnTo>
                  <a:pt x="68559" y="21600"/>
                </a:lnTo>
                <a:lnTo>
                  <a:pt x="0" y="21600"/>
                </a:lnTo>
                <a:close/>
              </a:path>
              <a:path fill="lightenLess" w="68559" h="21600">
                <a:moveTo>
                  <a:pt x="0" y="0"/>
                </a:moveTo>
                <a:lnTo>
                  <a:pt x="68559" y="0"/>
                </a:lnTo>
                <a:lnTo>
                  <a:pt x="67159" y="1400"/>
                </a:lnTo>
                <a:lnTo>
                  <a:pt x="1400" y="1400"/>
                </a:lnTo>
                <a:close/>
              </a:path>
              <a:path fill="darken" w="68559" h="21600">
                <a:moveTo>
                  <a:pt x="68559" y="0"/>
                </a:moveTo>
                <a:lnTo>
                  <a:pt x="68559" y="21600"/>
                </a:lnTo>
                <a:lnTo>
                  <a:pt x="67159" y="20200"/>
                </a:lnTo>
                <a:lnTo>
                  <a:pt x="67159" y="1400"/>
                </a:lnTo>
                <a:close/>
              </a:path>
              <a:path fill="darkenLess" w="68559" h="21600">
                <a:moveTo>
                  <a:pt x="685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59" y="20200"/>
                </a:lnTo>
                <a:close/>
              </a:path>
              <a:path fill="lighten" w="685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59" h="21600">
                <a:moveTo>
                  <a:pt x="27273" y="10800"/>
                </a:moveTo>
                <a:lnTo>
                  <a:pt x="41286" y="3794"/>
                </a:lnTo>
                <a:lnTo>
                  <a:pt x="41286" y="17806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144000" y="386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10:20:48Z</dcterms:created>
  <dc:creator>user</dc:creator>
  <dc:description/>
  <dc:language>en-US</dc:language>
  <cp:lastModifiedBy>алексей</cp:lastModifiedBy>
  <dcterms:modified xsi:type="dcterms:W3CDTF">2008-09-02T17:01:21Z</dcterms:modified>
  <cp:revision>17</cp:revision>
  <dc:subject/>
  <dc:title>Моделирование халата на основе ночной сорочки</dc:title>
</cp:coreProperties>
</file>