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75B-5A69-46C7-AFC5-0E05B305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E1C-2588-422E-8F3E-E26CA9AF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D00-87A2-4CBC-BC5F-332679C5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BB7-D9A4-4D49-ABED-089CDF1E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11DB-A6D9-4F65-BAE6-BC4F5C52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BA49-0972-43F4-8D2C-440BFC08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7AA8-C167-41A2-BB2C-3F4B7D7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BBFE-1C1B-4497-ABBB-A740CD12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4E6B-7205-4927-A5AD-663C9AB0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5080-F1DA-4FAE-A0C2-F1218ED1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41C1-0D46-4118-85EA-83C8D5B0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561-69D1-4683-8182-16533CD6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5507-D83B-4A94-AF64-20993603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854-3F94-4B8B-858D-0C200BFE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40EA-9AB6-4EDF-9EC7-2F497673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5A01-522D-4C8D-BB2C-87493F00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B07A-D05F-463F-8ADD-40441172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0218-5E4E-41B5-B909-B50FF23B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DE1DF-1FB5-4C3D-B7A8-30904FCF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6BD0-79BD-49BE-8013-5E2D0F9E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32C8-CF18-4216-9AB3-6F6A2826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E157-4457-43F6-AFE6-4556208A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A1F-67A9-4109-8C7F-BB9DC8C9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1F1C-40CA-4700-91F0-CDCE659B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EF11-18CA-4F09-868F-7304939B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CCC0-1980-4292-B7E7-9859A882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506F-5C23-40F9-B572-D1246F13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8800-8060-431A-BF77-8CA6A38D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5B03-D37E-4ACF-B46D-42C28795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429E-8DC5-4C01-91E0-E5423989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ABDD8-0577-42FB-83B4-A70D168E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3CCC-2A3A-4CEA-939D-7D258394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E7E3F-1389-4706-8A34-A10C8D4F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27B-363D-4AF2-B44D-02D30530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895F-39FF-49FC-BAE3-ADE5D1B5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2723-1C8E-463A-B10D-80B992AC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96F94-D1B3-4424-B1BD-DF32ADAD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0F74-71D4-42B0-9E35-12E0B780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4863-7F70-4694-8E3F-FF550345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D87B8-3F3F-4FAC-8878-D1B46398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32CA-09CD-4258-9155-F11A57A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4D63-5855-496A-861A-F50DF514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2AC9B-99B2-4819-BAA9-46F23659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748F-D244-489D-96D3-F95D19A6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AD0-0078-4414-8614-493F335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1AE4-2DA5-45A0-B5B6-546841AE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76044-B1D4-43EF-9478-07D529B8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4E78E-7A68-40BC-9B24-77D64B9E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2874A-CAC7-4108-9953-12008A32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D784-1397-4354-9D47-DEFEC731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AE4D8-0908-4508-A224-79194F03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43A86-1C78-4989-902B-1148A80E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24078-5070-4817-8610-B265665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8250-568A-4811-9049-107B03A8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89AC-2045-44CF-B62B-4F07F68B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42B-7450-40E0-910C-421A4012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87E4F-BB97-4DFF-9FB0-A7D9F2FE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6D7-35C3-4DD3-A546-E09C732B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39C-1EA8-48F0-90D1-EDBD8243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A68-F10D-4D5E-A671-8DD2028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6CA1-EA44-49BA-A86A-F55C0C628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1A1B-7715-452D-8B97-C3BD02D38EF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9C37-F22A-4B2E-B57F-A7B23387557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0D4B-D8D3-44F4-A58E-720420EDE4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7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4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5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90E9-3757-4C4E-895D-7F30E67131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Разновидн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капюшон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435640" y="549360"/>
            <a:ext cx="28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хн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6920" y="5661000"/>
            <a:ext cx="266544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читель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ыхрикова А.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-Соединяем прямой линией точки К2 и К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-От точки К4 вниз по прямой К2К4 откладываем величину скоса капюшона вверху. Обозначаем К41. </a:t>
            </a:r>
            <a:br>
              <a:rPr sz="1800"/>
            </a:b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К4К41 = 0…4,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-Проводим биссектрису угла КК3К4 и на ней от точки К3 откладываем отрезок К3К1 = 3,5…5,0 см.</a:t>
            </a:r>
            <a:br>
              <a:rPr sz="1800"/>
            </a:b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Обозначаем К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-Оформляем среднюю линию капюшона плавной линией через точки К1, К31, К4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-При шлемовидном оформлении лицевого края вверх от точки К2 откладываем высоту выступа капюшона на застеж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Обозначаем К21.</a:t>
            </a:r>
            <a:br>
              <a:rPr sz="1800"/>
            </a:b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К2К21 = 2,5-7,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-От точки К2 вправо по горизонтали откладываем отрезок, равный ширине борта (с чертежа полочки). Обозначаем К10. -Прямую соединяющую точки К41 и К2 делим пополам, от полученной точки 3 по перпендикуляру влево откладываем 1,0…4,0 см, получаем точку 4. Далее оформляем плавной кривой лицевую линию капюш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-Для оформления линии втачивания капюшона соединяем прямой линией точки К1 и К2 и делим отрезок пополам. Обозначаем К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-Через точку К5 восстанавливаем вверх перпендикуляр к прямой К1К2 и на нем откладываем величину прогиба линии втачивания. Обозначаем К6.</a:t>
            </a:r>
            <a:br>
              <a:rPr sz="1800"/>
            </a:b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К5К6 = 1,0-1,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-Линию втачивания оформляем через точки К1, К6, К2 плавной лин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-Если по модели предусмотрена вытачка, то от точки К6 вверх на продолжении прямой К5К6 откладываем длину вытачки. Обозначаем К8.</a:t>
            </a:r>
            <a:br>
              <a:rPr sz="2000"/>
            </a:b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К6К8 = 6,0…11,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-Вправо и влево от точки К6 по линии втачивания откладываем по половине раствора вытачки ( r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-Если предусмотрены две вытачки ,то сначала находят их положение, определяемое точками К5 и K7:</a:t>
            </a:r>
            <a:br>
              <a:rPr sz="2000"/>
            </a:b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К1К5 = К5 К7 = К1К2 /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-Из точек К5 и К7 к прямой К1К2 восставляют перпендикуляры и откладывают на них величину прогиба линии втачивания К5К6, К7К9 и длину вытачки К6К8, K9K10:</a:t>
            </a:r>
            <a:br>
              <a:rPr sz="2000"/>
            </a:b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К5К6= 1,0... 1,5 см, К7К9= 0,8... 1,2 см;</a:t>
            </a:r>
            <a:br>
              <a:rPr sz="2000"/>
            </a:b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К6К8= 6,0... 11,0 см, К9К10= 5,5... 10,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-Линию втачивания оформляют, соединив точки К1, К6, К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Вправо и влево от точек К6, и К7 откладывают по половине раствора выта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Длина второй вытачки бывает меньше на 0,5... 1,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Стороны вытачек делают прямыми или слегка изогнуты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обенности построения капюшона с центральной вставкой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640" y="537372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 этом случае капюшон состоит из трех частей : двух боковых и одной центральн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72000" cy="3745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439236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c80"/>
                </a:solidFill>
                <a:latin typeface="Arial"/>
              </a:rPr>
              <a:t>Капюшоны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3827520" cy="525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Вогнутая линия втачивания может иметь разную кривизну. При меньшей кривизне линии втачивания воротник больше прилегает к шее. Кривизну линии втачивания воротника характеризует конструктивный элемент, который называют подъемом середины воротника, Чем больше этот подъем, тем больше кривизна линии втачивания, тем меньше стойка ворот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1840" y="1341360"/>
            <a:ext cx="42591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7c80"/>
                </a:solidFill>
                <a:latin typeface="Arial"/>
              </a:rPr>
              <a:t>Особенности построения капюшо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24000" y="5877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Капюшон, на ряду с воротниками, получил широкое распространение при оформлении горловины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822840" cy="3822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Построение капюшо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32764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Строим прямой угол с вершиной в точке О.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От точки О вверх по вертикали откладываем величину подъема линии втачивания капюшона. Обозначаем К.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ОК = 2,0…5,0 см.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Величина ОК зависит от формы капюшона, степени свободы в затылочной части.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От точки К вправо по горизонтали откладываем величину отведения средней линии капюшона от вертикали.. 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К1К2 = 0…2,0 см.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Из точки К1 радиусом, равным ширине капюшона по линии втачивания, на горизонтали, проведенной через точку О делаем засечку. Обозначаем К2.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К1К2 = </a:t>
            </a:r>
            <a:r>
              <a:rPr b="1" i="1" lang="en-US" sz="2000" spc="-1" strike="noStrike">
                <a:solidFill>
                  <a:srgbClr val="9966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 +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r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= 21,5 + 2 = 23,5 см, 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где 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 - раствор вытачки или вытачек (капюшон может быть без вытачек) , </a:t>
            </a:r>
            <a:r>
              <a:rPr b="1" i="1" lang="en-US" sz="2000" spc="-1" strike="noStrike">
                <a:solidFill>
                  <a:srgbClr val="9966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 длина горловины (измеряют по чертежу).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От точки К вверх по вертикали откладываем высоту капюшона (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). Обозначаем К3.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КК3 = 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 + 1…10см( прибавка на свободное облегание по высоте капюшона, равная 1,0-10,0см). 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-От точки К3 влево по горизонтали откладываем ширину капюшона вверху. Обозначаем К4.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К3К4 = К1К2 + 0…5,0 см (прибавка на свободное облегание по ширине капюшона).</a:t>
            </a:r>
            <a:br>
              <a:rPr sz="2000"/>
            </a:b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Соединяем прямой линией точки К2 и К4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59920"/>
            <a:ext cx="8218440" cy="6597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От точки К4 вниз по прямой К2К4 откладываем величину скоса капюшона вверху. Обозначаем К41. 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К4К41 = 0…4,0 см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-Проводим биссектрису угла КК3К4 и на ней от точки К3 откладываем отрезок К3К1 = 3,5…5,0 см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Обозначаем К31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Оформляем среднюю линию капюшона плавной линией через точки К1, К31, К4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-Прямую соединяющую точки К41 и К2 делим пополам, от полученной точки 3 по перпендикуляру влево откладываем 1,0…4,0 см, получаем точку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Лицевую линию капюшона оформляем через точки К41 4 К2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-Для оформления линии втачивания капюшона соединяем прямой линией точки К1 и К2 и делим отрезок пополам. Обозначаем К5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-Через точку К5 восстанавливаем вверх перпендикуляр к прямой К1К2 и на нем откладываем величину прогиба линии втачивания. Обозначаем К6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К5К6 = 1,0-1,5 см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Линию втачивания оформляем через точки К1, К6, К2 плавной линией . 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-Если по модели предусмотрена вытачка, то от точки К6 вверх на продолжении прямой К5К6 откладываем длину вытачки. Обозначаем К8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К6К8 = 6,0…11,0 с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Вправо и влево от точки К6 по линии втачивания откладываем по половине раствора вытачки ( r ).</a:t>
            </a:r>
            <a:r>
              <a:rPr b="0" i="1" lang="en-US" sz="18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собенности построения капюшона - шлем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6165720"/>
            <a:ext cx="8207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собенности построения капюшона - шлема заключается в оформлении застежки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81816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строение капюшона - шлема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517680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362800" cy="6597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Строим прямой угол с вершиной в точке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-От точки О вверх по вертикали откладываем величину подъема линии втачивания капюшона. Обозначаем К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ОК = 2,0…5,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Величина ОК зависит от формы капюшона, степени свободы в затылочной части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-От точки К вправо по горизонтали откладываем величину отведения средней линии капюшона от вертикали.. 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К1К2 = 0…2,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-Из точки К1 радиусом, равным ширине капюшона по линии втачивания, на горизонтали, проведенной через точку О делаем засечку. Обозначаем К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К1К2 = L + r = 21,5 + 2 = 23,5 см, 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где r - раствор вытачки или вытачек(капюшон может быть без вытачек) , L- длина горловины (измеряют по чертежу)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-От точки К вверх по вертикали откладываем высоту капюшона (h). Обозначаем К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КК3 = h + 1…5,0см( прибавка на свободное облегание по высоте капюшона, равная 1,0-5,0с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-От точки К3 влево по горизонтали откладываем ширину капюшона вверху. Обозначаем К4.</a:t>
            </a:r>
            <a:br>
              <a:rPr sz="1800"/>
            </a:b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К3К4 = К1К2 + 0…5,0 см (прибавка на свободное облегание по ширине капюшона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7:34:14Z</dcterms:created>
  <dc:creator>алексей</dc:creator>
  <dc:description/>
  <dc:language>en-US</dc:language>
  <cp:lastModifiedBy>алексей</cp:lastModifiedBy>
  <dcterms:modified xsi:type="dcterms:W3CDTF">2009-03-03T12:59:50Z</dcterms:modified>
  <cp:revision>3</cp:revision>
  <dc:subject/>
  <dc:title>Капюшоны. </dc:title>
</cp:coreProperties>
</file>