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5B1C-C88E-4E2B-AC59-8647296F58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8E96-5007-4D19-B54D-27C49DFE9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7D0-DBCD-4C9C-AEE8-699AE8E2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4D8-2223-4AED-9588-6E026A91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1CE-C82D-47A3-B123-60C1376B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910-401B-472A-9032-9227BDAB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B104-1D67-40D8-8FA8-C13D97B6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2E97-54B9-47E6-8B40-094AC981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79AB-796B-4CF2-A7A2-B1C7D3EB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8315-9979-4C10-BD9F-CE5C4B7A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EE95-F494-4DE0-AE9E-B4BFA3C5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3168-2E1B-4729-91B0-C36001C9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0250-38DA-4BDD-BF23-3AC21D2B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A8A-7019-476C-ABE1-C78FDEA7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4177-A9DD-45D1-8F48-2FD9C502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2820-5856-45D8-A685-033E36D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E079-BB8F-4223-B5D6-D62BA1DA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9C9A-977F-473C-8C6A-63E7D338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F14E-1E7D-4EFE-8743-24F6B97D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CA6-4413-48E4-85D3-17E7F441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CA1-2125-4AD1-A934-513F9820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B38-B3E9-4CDA-B839-61028912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D90-4D59-40D7-955C-A1BA4EF3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835-3CA5-40AA-8F73-AAF69D3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C0D-A8EE-4969-8252-CE3DD7C8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96B-6714-40A2-8EC8-522967E9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5F45-CE00-4919-AAC1-83C089B2E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176F-BE66-4E23-A970-85B9D2194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www.zsh-school.ru/attachments/Image/1338737283_gia.jpg?1354558867313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Шкала пересчёта первичного балла за выполнение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экзаменационной работ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br>
              <a:rPr sz="2000"/>
            </a:br>
            <a:r>
              <a:rPr b="1" lang="ru-RU" sz="2800" spc="-1" strike="noStrike">
                <a:solidFill>
                  <a:srgbClr val="9b005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6b0028"/>
                </a:solidFill>
                <a:latin typeface="Arial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628640"/>
          <a:ext cx="8229600" cy="4572000"/>
        </p:xfrm>
        <a:graphic>
          <a:graphicData uri="http://schemas.openxmlformats.org/drawingml/2006/table">
            <a:tbl>
              <a:tblPr/>
              <a:tblGrid>
                <a:gridCol w="2448000"/>
                <a:gridCol w="1150920"/>
                <a:gridCol w="1338120"/>
                <a:gridCol w="1646280"/>
                <a:gridCol w="164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ибалльной шка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бал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1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– 2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– 36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4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ритери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- ГК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– 42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6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ритери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- ГК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1397160"/>
          <a:ext cx="8496360" cy="2743200"/>
        </p:xfrm>
        <a:graphic>
          <a:graphicData uri="http://schemas.openxmlformats.org/drawingml/2006/table">
            <a:tbl>
              <a:tblPr/>
              <a:tblGrid>
                <a:gridCol w="2762280"/>
                <a:gridCol w="1189080"/>
                <a:gridCol w="1305000"/>
                <a:gridCol w="1541160"/>
                <a:gridCol w="1698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 пятибал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 пятибал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– 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3059280" y="54936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0050"/>
                </a:solidFill>
                <a:latin typeface="Arial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50920" y="1397160"/>
          <a:ext cx="8640720" cy="2743200"/>
        </p:xfrm>
        <a:graphic>
          <a:graphicData uri="http://schemas.openxmlformats.org/drawingml/2006/table">
            <a:tbl>
              <a:tblPr/>
              <a:tblGrid>
                <a:gridCol w="2808360"/>
                <a:gridCol w="1209600"/>
                <a:gridCol w="1311120"/>
                <a:gridCol w="1582920"/>
                <a:gridCol w="1728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 пятибал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 пятибал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– 2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Box 3"/>
          <p:cNvSpPr/>
          <p:nvPr/>
        </p:nvSpPr>
        <p:spPr>
          <a:xfrm>
            <a:off x="1619280" y="476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Ф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50920" y="1397160"/>
          <a:ext cx="8640720" cy="2743200"/>
        </p:xfrm>
        <a:graphic>
          <a:graphicData uri="http://schemas.openxmlformats.org/drawingml/2006/table">
            <a:tbl>
              <a:tblPr/>
              <a:tblGrid>
                <a:gridCol w="2808360"/>
                <a:gridCol w="1209600"/>
                <a:gridCol w="1382760"/>
                <a:gridCol w="1511280"/>
                <a:gridCol w="1728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 пятибал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 пятибал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- 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3"/>
          <p:cNvSpPr/>
          <p:nvPr/>
        </p:nvSpPr>
        <p:spPr>
          <a:xfrm>
            <a:off x="1476360" y="549360"/>
            <a:ext cx="51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9280" y="1397160"/>
          <a:ext cx="8785440" cy="2743200"/>
        </p:xfrm>
        <a:graphic>
          <a:graphicData uri="http://schemas.openxmlformats.org/drawingml/2006/table">
            <a:tbl>
              <a:tblPr/>
              <a:tblGrid>
                <a:gridCol w="2855880"/>
                <a:gridCol w="1229040"/>
                <a:gridCol w="1315800"/>
                <a:gridCol w="1627200"/>
                <a:gridCol w="17575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 пятибал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 пятибал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- 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4"/>
          <p:cNvSpPr/>
          <p:nvPr/>
        </p:nvSpPr>
        <p:spPr>
          <a:xfrm>
            <a:off x="1692360" y="62064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250920" y="1125360"/>
            <a:ext cx="871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мая (вторник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математ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1 мая (пятница)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тория России, обществознание, физика, химия, география, биология, иностранные языки (английский, французский, немецкий, испанский), литература, информатика и информационно-коммуникационные тех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июня (вторник)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русский язык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июня (пятница)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тория России, обществознание, физика, химия, география, биология, иностранные языки (английский, французский, немецкий, испанский), литература, информатика и информационно-коммуникационные тех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 июня (вторник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резервный день: математика, история России, география, биология, физика, иностранные языки (английский, французский, немецкий, испанский);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 июня (пятница)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резервный день: русский язык, обществознание, химия, информатика и информационно-коммуникационные технологии, литера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39528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роки проведения ГИА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79280" y="1125360"/>
            <a:ext cx="8713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бный экзам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 математик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дет проходить в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сковской  обла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7 апреля 2013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5" descr="http://gia.osoko.ru/common/img/ege_new/logo_txt_1.gif"/>
          <p:cNvPicPr/>
          <p:nvPr/>
        </p:nvPicPr>
        <p:blipFill>
          <a:blip r:embed="rId1"/>
          <a:stretch/>
        </p:blipFill>
        <p:spPr>
          <a:xfrm>
            <a:off x="1908000" y="1268280"/>
            <a:ext cx="179100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http://gia.osoko.ru/common/img/ege_new/logo_gia.gif"/>
          <p:cNvPicPr/>
          <p:nvPr/>
        </p:nvPicPr>
        <p:blipFill>
          <a:blip r:embed="rId2"/>
          <a:stretch/>
        </p:blipFill>
        <p:spPr>
          <a:xfrm>
            <a:off x="395280" y="1125360"/>
            <a:ext cx="1143000" cy="9050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2"/>
          <p:cNvSpPr/>
          <p:nvPr/>
        </p:nvSpPr>
        <p:spPr>
          <a:xfrm>
            <a:off x="4284720" y="1341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gia.osok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1187280" y="33336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лезные сай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3" descr="ФИПИ"/>
          <p:cNvPicPr/>
          <p:nvPr/>
        </p:nvPicPr>
        <p:blipFill>
          <a:blip r:embed="rId3"/>
          <a:stretch/>
        </p:blipFill>
        <p:spPr>
          <a:xfrm>
            <a:off x="468360" y="2708280"/>
            <a:ext cx="1895400" cy="799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0"/>
          <p:cNvSpPr/>
          <p:nvPr/>
        </p:nvSpPr>
        <p:spPr>
          <a:xfrm>
            <a:off x="2627280" y="29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институт педагогических изме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>
            <a:off x="5796000" y="299736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fipi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5" descr="РЦОИ Московской области."/>
          <p:cNvPicPr/>
          <p:nvPr/>
        </p:nvPicPr>
        <p:blipFill>
          <a:blip r:embed="rId4"/>
          <a:stretch/>
        </p:blipFill>
        <p:spPr>
          <a:xfrm>
            <a:off x="324000" y="4292640"/>
            <a:ext cx="2133360" cy="6192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3"/>
          <p:cNvSpPr/>
          <p:nvPr/>
        </p:nvSpPr>
        <p:spPr>
          <a:xfrm>
            <a:off x="2484360" y="4221000"/>
            <a:ext cx="43736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овской обла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5940360" y="436572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coi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днс\Desktop\Ирина\Шаблоны для презентаций и тестов\7f5fc115-076f-4183-9cdb-d71742281991.jp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Подготовка и проведение ГИА 2013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0010"/>
                </a:solidFill>
                <a:latin typeface="Arial"/>
              </a:rPr>
              <a:t>Родительское собр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0010"/>
                </a:solidFill>
                <a:latin typeface="Arial"/>
              </a:rPr>
              <a:t>27 февраля 201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упительное слово директора МОУ «Средняя общеобразовательная школа № 17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лександра Владимировича Жиль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50920" y="1773360"/>
            <a:ext cx="8713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«Подготовка и проведение Государственной (итоговой) аттестации в 2013 год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меститель директора МОУ «СОШ № 17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рина Геннадьевна Смо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0" y="74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яд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ия государственной (итоговой)      аттест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ускник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классов в новой форме 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Московской области в 2013 го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0" y="1628640"/>
            <a:ext cx="83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в новой форме (далее – ГИА-9 в новой форме) на территории Московской области в 2013 году проводится по следующим общеобразовательным предметам: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атематика, русский язык, литература, физика, химия, география, биология, история, общество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замены п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сскому языку и математи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язательны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замены по другим общеобразовательным предметам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итературе, физике, химии, географии, биологии, истории, обществознани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алее – предметы по выбору) – выпускники сдают на  добровольной основ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воему выбор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А-9 в новой форме проводится в пунктах проведения экзамена (далее – ППЭ), созданных на базе общеобразовательных учре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-757080" y="333360"/>
            <a:ext cx="990108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оки проведения ГИА-9 в новой форме устанавливаются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обрнадз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и, пропустившие экзамен по причине болезни, сдают его в новой форме в резервный день в соответствии со сроками, установленными Рособрнадз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и, получившие на государственной (итоговой) аттестации не более двух неудовлетворительных отметок, допускаются к повторной аттестации в форме, согласованной ТЭ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за ходом проведения экзамена осуществляют общественные наблюдатели, аккредитованные в установленном порядке, уполномоченные представители ТЭ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кзамен начинается в 10.00 по московскому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, затраченное на проверку регистрационных данных участника экзамена, комплектности именных бланков ответов и чтение аудиторным организатором инструкции по выполнению экзаменационной работы, в общее время экзамена не включается. Время начала и окончания экзамена записывается на до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уск участников экзамена и рассадка их в аудитории осуществляются не ранее, чем за 15 минут до начала экза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днс\Desktop\Ирина\Экзамены 9 класс\blank2012-rus-math copy.png"/>
          <p:cNvPicPr/>
          <p:nvPr/>
        </p:nvPicPr>
        <p:blipFill>
          <a:blip r:embed="rId1"/>
          <a:stretch/>
        </p:blipFill>
        <p:spPr>
          <a:xfrm>
            <a:off x="4240080" y="0"/>
            <a:ext cx="45086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79280" y="83664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анки от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9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днс\Desktop\Все о ГИА-9\Формы бланков ответов и их описание\blank2013-С.png"/>
          <p:cNvPicPr/>
          <p:nvPr/>
        </p:nvPicPr>
        <p:blipFill>
          <a:blip r:embed="rId1"/>
          <a:stretch/>
        </p:blipFill>
        <p:spPr>
          <a:xfrm>
            <a:off x="2079720" y="0"/>
            <a:ext cx="49845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днс\Desktop\Ирина\Экзамены 9 класс\blank2012-dop.png"/>
          <p:cNvPicPr/>
          <p:nvPr/>
        </p:nvPicPr>
        <p:blipFill>
          <a:blip r:embed="rId1"/>
          <a:stretch/>
        </p:blipFill>
        <p:spPr>
          <a:xfrm>
            <a:off x="2120760" y="0"/>
            <a:ext cx="4902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32:40Z</dcterms:created>
  <dc:creator>ppsworld.ru</dc:creator>
  <dc:description/>
  <dc:language>en-US</dc:language>
  <cp:lastModifiedBy>днс</cp:lastModifiedBy>
  <dcterms:modified xsi:type="dcterms:W3CDTF">2013-02-27T04:06:55Z</dcterms:modified>
  <cp:revision>20</cp:revision>
  <dc:subject/>
  <dc:title>Слайд 1</dc:title>
</cp:coreProperties>
</file>